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359900" cy="71993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C4B3-CFA8-4993-BD72-A53AFDC08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AFFA-BB2B-4A88-9A53-DF3B0DEE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72DC-1607-4E44-9114-7DDA40B9A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704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572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704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572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86EB-1938-4B3A-88D8-B198620DC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381D-2366-415D-A922-4EE5828C6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FC10-3EEF-4AB2-B530-B856F9EC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5088-C2DE-43B4-B327-D49F4372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88C7F-AF1E-424C-90AF-CB6C8F3C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A31A-249A-4627-8345-B89FB2D2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288720"/>
            <a:ext cx="842472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34D6-12CA-441D-8D19-553BD0EC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FBCA-E72F-4600-863D-DF5493E1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6146-75B3-426A-88E1-FE12060F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1115-7A51-4907-A305-A19C775F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49B4F-882B-4413-AA64-8B640AFC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1076-FE22-44B5-A28E-868868D1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5012-47AD-4F50-90AE-29F685DEE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704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6572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704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6572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F577C-B7E8-418C-BA2A-30696A586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FA82-8CCC-42A6-A26D-5D1BD92D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890D-C9F9-4BE8-8105-298F58DD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29FE-8E35-4241-B923-6AF8B241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288720"/>
            <a:ext cx="842472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49ED-26CD-4387-9E78-DDB97797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C2EC-AAA3-4EC6-B5B5-AB6911AE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46B6-0815-463C-82CF-76CD143E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9CA7-84E3-4E57-8FBA-7843E216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8261-204B-4278-854F-DE9954CAF77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98600" y="6673680"/>
            <a:ext cx="29638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860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B59E-2F43-44D0-A9B6-950135FE6F7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6836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FA1C-508A-4DFB-8C89-B291F5B13597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98600" y="6673680"/>
            <a:ext cx="29638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0860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0FEA-530B-45CB-BDA8-1C4A28E7BB7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0"/>
          <p:cNvSpPr/>
          <p:nvPr/>
        </p:nvSpPr>
        <p:spPr>
          <a:xfrm>
            <a:off x="1220760" y="1368360"/>
            <a:ext cx="3029040" cy="396720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0"/>
          <p:cNvSpPr/>
          <p:nvPr/>
        </p:nvSpPr>
        <p:spPr>
          <a:xfrm flipH="1">
            <a:off x="4803840" y="1343160"/>
            <a:ext cx="2503440" cy="394416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1100" spc="-1" strike="noStrike">
                <a:solidFill>
                  <a:srgbClr val="000000"/>
                </a:solidFill>
                <a:latin typeface="Calibri"/>
              </a:rPr>
              <a:t>（三）镇街部门审查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90"/>
          <p:cNvSpPr/>
          <p:nvPr/>
        </p:nvSpPr>
        <p:spPr>
          <a:xfrm>
            <a:off x="2179800" y="601560"/>
            <a:ext cx="54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办理工程质量安全监管手续流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373040" y="4484520"/>
            <a:ext cx="2732400" cy="2613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申请人可在市镇两级政务服务中心或村（社区）党群服务中心窗口线下申请办理，也可以通过登陆“农民安居房审批管理系统”线上办理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右箭头 31"/>
          <p:cNvSpPr/>
          <p:nvPr/>
        </p:nvSpPr>
        <p:spPr>
          <a:xfrm>
            <a:off x="4303800" y="4751280"/>
            <a:ext cx="431640" cy="18108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文本框 8"/>
          <p:cNvSpPr/>
          <p:nvPr/>
        </p:nvSpPr>
        <p:spPr>
          <a:xfrm>
            <a:off x="5505480" y="4863960"/>
            <a:ext cx="1165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0" lang="en-US" sz="11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个工作日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1"/>
          <p:cNvSpPr/>
          <p:nvPr/>
        </p:nvSpPr>
        <p:spPr>
          <a:xfrm>
            <a:off x="5262480" y="3929040"/>
            <a:ext cx="1652760" cy="261360"/>
          </a:xfrm>
          <a:prstGeom prst="rect">
            <a:avLst/>
          </a:prstGeom>
          <a:noFill/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核发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农房建设施工牌》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文本框 28"/>
          <p:cNvSpPr/>
          <p:nvPr/>
        </p:nvSpPr>
        <p:spPr>
          <a:xfrm>
            <a:off x="2046240" y="4189320"/>
            <a:ext cx="1235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（二）提交申请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文本框 28"/>
          <p:cNvSpPr/>
          <p:nvPr/>
        </p:nvSpPr>
        <p:spPr>
          <a:xfrm>
            <a:off x="1838160" y="1440000"/>
            <a:ext cx="180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（一）前期资料准备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右箭头 13"/>
          <p:cNvSpPr/>
          <p:nvPr/>
        </p:nvSpPr>
        <p:spPr>
          <a:xfrm rot="5400000">
            <a:off x="2544480" y="3938400"/>
            <a:ext cx="236520" cy="195480"/>
          </a:xfrm>
          <a:prstGeom prst="rightArrow">
            <a:avLst>
              <a:gd name="adj1" fmla="val 50000"/>
              <a:gd name="adj2" fmla="val 49938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文本框 39"/>
          <p:cNvSpPr/>
          <p:nvPr/>
        </p:nvSpPr>
        <p:spPr>
          <a:xfrm>
            <a:off x="4160880" y="5656320"/>
            <a:ext cx="3021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不符合条件的，一次性告知原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1"/>
          <p:cNvSpPr/>
          <p:nvPr/>
        </p:nvSpPr>
        <p:spPr>
          <a:xfrm>
            <a:off x="5237280" y="2232000"/>
            <a:ext cx="1677960" cy="4539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镇街住建部门对资料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进行审查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7"/>
          <p:cNvSpPr/>
          <p:nvPr/>
        </p:nvSpPr>
        <p:spPr>
          <a:xfrm>
            <a:off x="8201160" y="2298600"/>
            <a:ext cx="75960" cy="3787920"/>
          </a:xfrm>
          <a:prstGeom prst="rect">
            <a:avLst/>
          </a:prstGeom>
          <a:gradFill rotWithShape="0">
            <a:gsLst>
              <a:gs pos="0">
                <a:srgbClr val="fe4444"/>
              </a:gs>
              <a:gs pos="100000">
                <a:srgbClr val="832b2b"/>
              </a:gs>
            </a:gsLst>
            <a:lin ang="5400000"/>
          </a:gra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8"/>
          <p:cNvSpPr/>
          <p:nvPr/>
        </p:nvSpPr>
        <p:spPr>
          <a:xfrm rot="16200000">
            <a:off x="5404680" y="3215520"/>
            <a:ext cx="77760" cy="5667120"/>
          </a:xfrm>
          <a:prstGeom prst="rect">
            <a:avLst/>
          </a:prstGeom>
          <a:gradFill rotWithShape="0">
            <a:gsLst>
              <a:gs pos="0">
                <a:srgbClr val="fe4444"/>
              </a:gs>
              <a:gs pos="100000">
                <a:srgbClr val="832b2b"/>
              </a:gs>
            </a:gsLst>
            <a:lin ang="10800000"/>
          </a:gra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右箭头 37"/>
          <p:cNvSpPr/>
          <p:nvPr/>
        </p:nvSpPr>
        <p:spPr>
          <a:xfrm rot="16200000">
            <a:off x="2288160" y="5658480"/>
            <a:ext cx="706320" cy="15228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文本框 28"/>
          <p:cNvSpPr/>
          <p:nvPr/>
        </p:nvSpPr>
        <p:spPr>
          <a:xfrm>
            <a:off x="7986600" y="6816600"/>
            <a:ext cx="1238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-1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右箭头 1"/>
          <p:cNvSpPr/>
          <p:nvPr/>
        </p:nvSpPr>
        <p:spPr>
          <a:xfrm rot="5400000">
            <a:off x="5675400" y="3221640"/>
            <a:ext cx="758880" cy="18252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2"/>
          <p:cNvSpPr/>
          <p:nvPr/>
        </p:nvSpPr>
        <p:spPr>
          <a:xfrm rot="5400000">
            <a:off x="7776720" y="1950840"/>
            <a:ext cx="76320" cy="771480"/>
          </a:xfrm>
          <a:prstGeom prst="rect">
            <a:avLst/>
          </a:prstGeom>
          <a:gradFill rotWithShape="0">
            <a:gsLst>
              <a:gs pos="0">
                <a:srgbClr val="fe4444"/>
              </a:gs>
              <a:gs pos="100000">
                <a:srgbClr val="832b2b"/>
              </a:gs>
            </a:gsLst>
            <a:lin ang="0"/>
          </a:gra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3"/>
          <p:cNvSpPr/>
          <p:nvPr/>
        </p:nvSpPr>
        <p:spPr>
          <a:xfrm>
            <a:off x="5969880" y="2932200"/>
            <a:ext cx="54540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符合条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28"/>
          <p:cNvSpPr/>
          <p:nvPr/>
        </p:nvSpPr>
        <p:spPr>
          <a:xfrm>
            <a:off x="398160" y="260280"/>
            <a:ext cx="579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附件</a:t>
            </a: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1368360" y="1712880"/>
            <a:ext cx="2732040" cy="16005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农房建设申请表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施工合同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施工图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④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保险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⑤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农房建设批准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⑥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施工企业派驻项目施工管理人员的任命文件和身份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⑦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农房工程质量安全监管登记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表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⑧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房屋安全鉴定报告（扩（加）建的农房需要提供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⑨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施工图审查报告（建筑层数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层及以上的农房需提供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841320" y="600120"/>
          <a:ext cx="7980480" cy="6107040"/>
        </p:xfrm>
        <a:graphic>
          <a:graphicData uri="http://schemas.openxmlformats.org/drawingml/2006/table">
            <a:tbl>
              <a:tblPr/>
              <a:tblGrid>
                <a:gridCol w="754200"/>
                <a:gridCol w="2531880"/>
                <a:gridCol w="3268800"/>
                <a:gridCol w="1425600"/>
              </a:tblGrid>
              <a:tr h="39672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办理农房工程质量安全监管手续所需资料清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序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材料名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注意事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备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74760">
                <a:tc gridSpan="4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通用材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施工合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施工单位应取得建设行政主管部门颁发的相应资质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原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426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施工图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设计单位应取得建设行政主管部门颁发的相应资质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原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427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保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工伤保险或建筑工程安全生产责任险，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可叠加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原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03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设计单位资质证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设计单位应取得建设行政主管部门颁发的相应资质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复印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03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施工企业资质证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施工企业应取得建设行政主管部门颁发的相应资质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复印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03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施工企业派驻项目施工管理人员的任命文件和身份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施工企业加盖公章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复印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42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农房工程质量安全监管登记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详见附件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7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原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426960">
                <a:tc gridSpan="4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非通用材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房屋结构安全鉴定报告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扩（加）建的农房需提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原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426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施工图审查报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建筑层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层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及以上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的农房需提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原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104" name="文本框 28"/>
          <p:cNvSpPr/>
          <p:nvPr/>
        </p:nvSpPr>
        <p:spPr>
          <a:xfrm>
            <a:off x="7986600" y="6816600"/>
            <a:ext cx="1238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-2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0T08:59:00Z</dcterms:created>
  <dc:creator>user</dc:creator>
  <dc:description/>
  <dc:language>en-US</dc:language>
  <cp:lastModifiedBy>Ming.</cp:lastModifiedBy>
  <dcterms:modified xsi:type="dcterms:W3CDTF">2023-09-04T08:33:36Z</dcterms:modified>
  <cp:revision>52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B9AD54C8B5E04C8791E3C12CD1DAECD5_12</vt:lpwstr>
  </property>
  <property fmtid="{D5CDD505-2E9C-101B-9397-08002B2CF9AE}" pid="3" name="KSOProductBuildVer">
    <vt:lpwstr>2052-12.1.0.15120</vt:lpwstr>
  </property>
</Properties>
</file>