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74B-FA49-4673-9C38-C9DFF52A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913-45DD-47E1-8214-20FF555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34D-E912-4F01-B380-7C0931DC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7B1-9D6A-4D51-9B56-A733518B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1A48-597D-4DCB-BCF8-6BFDB9EF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643-4DB0-4C2B-A2EA-8D6C416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FE5-E629-41E7-B9B2-D1EC9DC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C57-6865-4C1E-B77B-A3164D21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144-2488-48B9-BC6B-D9D12728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89B5-328C-4354-963E-8159A9A3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C1C-D96D-4E8E-AD97-ACA1660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4BD-3EB3-4F39-8ACE-5D8B2D5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DF7-0961-4192-B817-B7DB505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FC0-9E9D-41D2-9CA8-D5BF486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9A25-54B2-46E3-AE55-8413AC6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EA2-61F7-4899-A8C4-47F7803F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A85-B675-494E-88F8-062E1F7A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582-4BE1-4973-9D78-4866300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F13-E637-4A16-B998-957C2BE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A71-BAC1-4B35-ACCC-251BBD2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39C-9DDB-4073-B941-39326027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0B3-CED0-4DA1-A8DE-525D4FF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E28-88F0-49B8-90E8-7C4D4E4F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F79-1143-4797-86BD-F61B38BA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EA1-3E3A-4E37-9245-319328B973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5165-CBDE-4341-95E2-6EDC4A764A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158-5B00-49B5-A352-D12D35549F6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8581-DA44-4487-9833-05E1708175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351000" y="1658880"/>
            <a:ext cx="1989000" cy="54691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7475400" y="2835360"/>
            <a:ext cx="153360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51000" y="541440"/>
            <a:ext cx="1989000" cy="1098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272200" y="2835360"/>
            <a:ext cx="162864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992320" y="2849400"/>
            <a:ext cx="171792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2179800" y="601560"/>
            <a:ext cx="54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建设批准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474840" y="5705640"/>
            <a:ext cx="17730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下载确认，并签字扫描后，连同前期准备资料，一并上传至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31"/>
          <p:cNvSpPr/>
          <p:nvPr/>
        </p:nvSpPr>
        <p:spPr>
          <a:xfrm>
            <a:off x="2433600" y="4471920"/>
            <a:ext cx="477720" cy="16200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070080" y="34988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公示报建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070080" y="47624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申请信息及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右箭头 5"/>
          <p:cNvSpPr/>
          <p:nvPr/>
        </p:nvSpPr>
        <p:spPr>
          <a:xfrm rot="5400000">
            <a:off x="3589920" y="4175640"/>
            <a:ext cx="490680" cy="162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8"/>
          <p:cNvSpPr/>
          <p:nvPr/>
        </p:nvSpPr>
        <p:spPr>
          <a:xfrm>
            <a:off x="3418920" y="53989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右箭头 9"/>
          <p:cNvSpPr/>
          <p:nvPr/>
        </p:nvSpPr>
        <p:spPr>
          <a:xfrm>
            <a:off x="4761000" y="4484520"/>
            <a:ext cx="474480" cy="1368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5619600" y="3178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5415120" y="3611520"/>
            <a:ext cx="1395360" cy="1098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农林水务、自然资源、规划管理、城市管理综合执法、住房城乡建设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9"/>
          <p:cNvSpPr/>
          <p:nvPr/>
        </p:nvSpPr>
        <p:spPr>
          <a:xfrm>
            <a:off x="5630400" y="55054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670880" y="4960800"/>
            <a:ext cx="121428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5"/>
          <p:cNvSpPr/>
          <p:nvPr/>
        </p:nvSpPr>
        <p:spPr>
          <a:xfrm>
            <a:off x="7843680" y="296712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五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7"/>
          <p:cNvSpPr/>
          <p:nvPr/>
        </p:nvSpPr>
        <p:spPr>
          <a:xfrm>
            <a:off x="7854480" y="54943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右箭头 36"/>
          <p:cNvSpPr/>
          <p:nvPr/>
        </p:nvSpPr>
        <p:spPr>
          <a:xfrm rot="10800000">
            <a:off x="2554200" y="6699240"/>
            <a:ext cx="6670800" cy="117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9"/>
          <p:cNvSpPr/>
          <p:nvPr/>
        </p:nvSpPr>
        <p:spPr>
          <a:xfrm>
            <a:off x="4782960" y="6372360"/>
            <a:ext cx="315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8"/>
          <p:cNvSpPr/>
          <p:nvPr/>
        </p:nvSpPr>
        <p:spPr>
          <a:xfrm>
            <a:off x="3342600" y="313524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658800" y="1727280"/>
            <a:ext cx="13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520560" y="658800"/>
            <a:ext cx="149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17680" y="919080"/>
            <a:ext cx="160308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土地权属证明材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报建地块用地红线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拟建房屋建筑方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441360" y="1987560"/>
            <a:ext cx="1814400" cy="1771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申请办理，也可以登陆『广东政务服务网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东莞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工程建设项目审批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农民安居房审批管理系统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网址：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http://zwfw.dg.gov.cn/aplanmis-mal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28760" y="4960800"/>
            <a:ext cx="181764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系统自动生成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申请表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428760" y="4103640"/>
            <a:ext cx="1814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农民安居房审批』，填写基本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右箭头 2"/>
          <p:cNvSpPr/>
          <p:nvPr/>
        </p:nvSpPr>
        <p:spPr>
          <a:xfrm rot="5400000">
            <a:off x="1193760" y="47260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右箭头 3"/>
          <p:cNvSpPr/>
          <p:nvPr/>
        </p:nvSpPr>
        <p:spPr>
          <a:xfrm rot="5400000">
            <a:off x="1193760" y="389592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38280" y="6632640"/>
            <a:ext cx="1377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发起申报』，提交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7"/>
          <p:cNvSpPr/>
          <p:nvPr/>
        </p:nvSpPr>
        <p:spPr>
          <a:xfrm rot="5400000">
            <a:off x="1193760" y="549756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右箭头 8"/>
          <p:cNvSpPr/>
          <p:nvPr/>
        </p:nvSpPr>
        <p:spPr>
          <a:xfrm rot="5400000">
            <a:off x="1182600" y="6429240"/>
            <a:ext cx="190440" cy="763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6962040" y="41752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9147240" y="3659040"/>
            <a:ext cx="77760" cy="31165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4740120" y="41511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3813120" y="5880240"/>
            <a:ext cx="76320" cy="8190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570800" y="356544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右箭头 21"/>
          <p:cNvSpPr/>
          <p:nvPr/>
        </p:nvSpPr>
        <p:spPr>
          <a:xfrm rot="5400000">
            <a:off x="7867080" y="4340160"/>
            <a:ext cx="784080" cy="174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414520" y="4189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27"/>
          <p:cNvSpPr/>
          <p:nvPr/>
        </p:nvSpPr>
        <p:spPr>
          <a:xfrm>
            <a:off x="8415360" y="4060800"/>
            <a:ext cx="34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右箭头 4"/>
          <p:cNvSpPr/>
          <p:nvPr/>
        </p:nvSpPr>
        <p:spPr>
          <a:xfrm>
            <a:off x="6964200" y="4486320"/>
            <a:ext cx="476280" cy="135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 rot="16200000">
            <a:off x="9084240" y="3596400"/>
            <a:ext cx="76320" cy="1983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55800" y="887400"/>
          <a:ext cx="7372080" cy="512460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4953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建设批准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遗失土地使用权证、不动产权证的，以不动产登记部门出具的查档证明代替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55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将红线图各点地理坐标直接录入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；或上传由具备资质的测绘机构出具的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坐标系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6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拟建房屋与宅基地坐落总平面图、每层平面图、前后左右立面图等；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版图形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本地村民可不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户口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下载签字后上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28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0:59:00Z</dcterms:created>
  <dc:creator>user</dc:creator>
  <dc:description/>
  <dc:language>en-US</dc:language>
  <cp:lastModifiedBy>Ming.</cp:lastModifiedBy>
  <dcterms:modified xsi:type="dcterms:W3CDTF">2023-09-04T07:04:22Z</dcterms:modified>
  <cp:revision>5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4183771C364413AA937F5A190712DA3_12</vt:lpwstr>
  </property>
  <property fmtid="{D5CDD505-2E9C-101B-9397-08002B2CF9AE}" pid="3" name="KSOProductBuildVer">
    <vt:lpwstr>2052-12.1.0.15120</vt:lpwstr>
  </property>
</Properties>
</file>