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359900" cy="71993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9F7F-ECE1-4CD3-94E6-1521144B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9F5-DE76-4AF3-BDBC-D317A110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2562-48BA-4452-A973-E972018C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A35-1B88-4C1E-8905-37C4FF90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0D3A-53EE-4863-96EE-4C2EE355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F320-97E1-4AB4-8752-5546AB5E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49A0-3B7F-4D21-BC4E-FE45A771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7209-73F1-4BDC-B51E-8C17DA2E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1A1E-3F41-4F70-B467-9F17081C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9E59-1567-441A-AFE6-5CA5E948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0C2C-0EBA-453C-A4DD-7E38CA62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C2B-24DD-491B-96DD-2A7130CF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7C86-EBD0-407B-9E95-37D36AA7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E07B-9677-4FCB-8885-9338466E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D513-07F7-440B-B4D4-87CE57B8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AEC4-E051-45CC-8C33-0DD3C6B5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6936-009A-4E4B-AD0B-5E32677E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E9E7-CD5E-4E7C-B78F-C6BB1A70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2A72-9A02-4B36-AE0E-463E5735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15C4-048A-4C21-88AE-1F629B3D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249E-603B-4E31-8304-D8E9465B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E63F-9B95-4ECD-BF98-822FC08E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A79-4E5A-4669-BBBD-96778813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D86-40A1-4C6A-8FD8-5EAC8FE4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4D1A-AB50-44EE-8E32-611D765E485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6A12-D924-44DF-BEFC-F6FCAA94CA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CCA4-7A41-47F0-8E21-6BDD0A29F51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9B3E-B6B3-4B99-8025-5E7271557D0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0"/>
          <p:cNvSpPr/>
          <p:nvPr/>
        </p:nvSpPr>
        <p:spPr>
          <a:xfrm>
            <a:off x="406440" y="1123920"/>
            <a:ext cx="2504880" cy="16005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407880" y="3251160"/>
            <a:ext cx="2505240" cy="16005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3822840" y="1123920"/>
            <a:ext cx="3927240" cy="17679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90"/>
          <p:cNvSpPr/>
          <p:nvPr/>
        </p:nvSpPr>
        <p:spPr>
          <a:xfrm>
            <a:off x="2179800" y="314280"/>
            <a:ext cx="54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办理延期手续流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28"/>
          <p:cNvSpPr/>
          <p:nvPr/>
        </p:nvSpPr>
        <p:spPr>
          <a:xfrm>
            <a:off x="979560" y="1209600"/>
            <a:ext cx="158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一）前期资料准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28"/>
          <p:cNvSpPr/>
          <p:nvPr/>
        </p:nvSpPr>
        <p:spPr>
          <a:xfrm>
            <a:off x="979560" y="3360600"/>
            <a:ext cx="126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二）提交申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647640" y="3765600"/>
            <a:ext cx="202572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申请人登录『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农民安居房审批管理系统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』，点击『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建设延期申请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』选项并上传相关资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右箭头 9"/>
          <p:cNvSpPr/>
          <p:nvPr/>
        </p:nvSpPr>
        <p:spPr>
          <a:xfrm>
            <a:off x="3236760" y="6048360"/>
            <a:ext cx="530280" cy="16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3798720" y="4933800"/>
            <a:ext cx="4035600" cy="19353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3916440" y="1622520"/>
            <a:ext cx="1528560" cy="4287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《农房建设批准书》核发之日起，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年内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未开工建设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且未办理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《农房建设施工牌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28"/>
          <p:cNvSpPr/>
          <p:nvPr/>
        </p:nvSpPr>
        <p:spPr>
          <a:xfrm>
            <a:off x="3683160" y="1209600"/>
            <a:ext cx="126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情况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28"/>
          <p:cNvSpPr/>
          <p:nvPr/>
        </p:nvSpPr>
        <p:spPr>
          <a:xfrm>
            <a:off x="3683160" y="5043600"/>
            <a:ext cx="126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情况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3917880" y="5413320"/>
            <a:ext cx="1638360" cy="5961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《农房建设批准书》核发之日起，申请人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年内已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办理工程质量安全监管手续并开工建设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但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年内未完成建设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以《农房建设批准书》核发之日起计算）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右箭头 6"/>
          <p:cNvSpPr/>
          <p:nvPr/>
        </p:nvSpPr>
        <p:spPr>
          <a:xfrm>
            <a:off x="3236760" y="1989000"/>
            <a:ext cx="530280" cy="16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6208560" y="1558800"/>
            <a:ext cx="140184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村（社区）、镇街联审部门、镇政府按照建设批准手续程序重新审查或审核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右箭头 8"/>
          <p:cNvSpPr/>
          <p:nvPr/>
        </p:nvSpPr>
        <p:spPr>
          <a:xfrm>
            <a:off x="5548320" y="1901880"/>
            <a:ext cx="465120" cy="1620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6245280" y="5616720"/>
            <a:ext cx="143172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村（社区）、镇街联审部门、镇政府按照工程质量安全监管手续程序重新审查或审核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右箭头 12"/>
          <p:cNvSpPr/>
          <p:nvPr/>
        </p:nvSpPr>
        <p:spPr>
          <a:xfrm>
            <a:off x="5657760" y="5981760"/>
            <a:ext cx="486000" cy="14616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1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539640" y="1527120"/>
            <a:ext cx="2239920" cy="9309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施工合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保险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施工企业派驻项目施工管理人员的任命文件和身份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农房工程质量安全监管登记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右箭头 16"/>
          <p:cNvSpPr/>
          <p:nvPr/>
        </p:nvSpPr>
        <p:spPr>
          <a:xfrm rot="5400000">
            <a:off x="1511640" y="2934360"/>
            <a:ext cx="296640" cy="12060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3"/>
          <p:cNvSpPr/>
          <p:nvPr/>
        </p:nvSpPr>
        <p:spPr>
          <a:xfrm>
            <a:off x="3236760" y="2030400"/>
            <a:ext cx="104760" cy="40910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4"/>
          <p:cNvSpPr/>
          <p:nvPr/>
        </p:nvSpPr>
        <p:spPr>
          <a:xfrm rot="5400000">
            <a:off x="3074040" y="3685320"/>
            <a:ext cx="84240" cy="3938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8"/>
          <p:cNvSpPr/>
          <p:nvPr/>
        </p:nvSpPr>
        <p:spPr>
          <a:xfrm>
            <a:off x="392760" y="260280"/>
            <a:ext cx="66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附件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3822840" y="3044880"/>
            <a:ext cx="3954240" cy="174924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60720" y="3621240"/>
            <a:ext cx="1586160" cy="79524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《农房建设批准书》核发之日起，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年内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未开工建设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且已办理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《农房建设施工牌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28"/>
          <p:cNvSpPr/>
          <p:nvPr/>
        </p:nvSpPr>
        <p:spPr>
          <a:xfrm>
            <a:off x="3755880" y="3191040"/>
            <a:ext cx="126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情况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6234120" y="3479760"/>
            <a:ext cx="140184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村（社区）、镇街联审部门、镇政府按照建设批准手续和质量安全监管手续程序重新审查或审核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右箭头 10"/>
          <p:cNvSpPr/>
          <p:nvPr/>
        </p:nvSpPr>
        <p:spPr>
          <a:xfrm>
            <a:off x="5657760" y="3960720"/>
            <a:ext cx="465120" cy="1620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955800" y="887400"/>
          <a:ext cx="7372080" cy="4167360"/>
        </p:xfrm>
        <a:graphic>
          <a:graphicData uri="http://schemas.openxmlformats.org/drawingml/2006/table">
            <a:tbl>
              <a:tblPr/>
              <a:tblGrid>
                <a:gridCol w="1638000"/>
                <a:gridCol w="1638360"/>
                <a:gridCol w="2801880"/>
                <a:gridCol w="1293840"/>
              </a:tblGrid>
              <a:tr h="3967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办理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延期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手续所需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资料清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56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建设批准手续延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房建设申请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系统自动生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6828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工程质量安全监管手续延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份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合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单位具备相应资质并已在东莞市建设网建立信用档案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保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工伤保险或建筑工程安全生产责任险，可叠加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企业派驻项目施工管理人员的任命文件和身份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企业加盖公章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房工程质量安全监管登记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可自行网上下载或到村委会领取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企业加盖公章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12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2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08:59:00Z</dcterms:created>
  <dc:creator>user</dc:creator>
  <dc:description/>
  <dc:language>en-US</dc:language>
  <cp:lastModifiedBy>飞龙</cp:lastModifiedBy>
  <dcterms:modified xsi:type="dcterms:W3CDTF">2023-08-09T15:33:00Z</dcterms:modified>
  <cp:revision>50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026B97B913A24728BDE7B92B2BE837AD_12</vt:lpwstr>
  </property>
  <property fmtid="{D5CDD505-2E9C-101B-9397-08002B2CF9AE}" pid="3" name="KSOProductBuildVer">
    <vt:lpwstr>2052-12.1.0.15120</vt:lpwstr>
  </property>
</Properties>
</file>