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9F5-AA93-42EE-96DC-8C414539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6F5-9075-476C-853D-61DFBE04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1D0-2FAD-48D2-BE61-A4496823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F3D-73EC-462B-B7A5-9B25CF22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CF14-B5A7-477B-B5D1-6025D96E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005-0DE6-4655-8B23-CA53C5E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D55-A941-465E-82B9-5A1A5E7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1AF7-B3D8-42CF-B6FC-44837A8F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D5D5-6CD0-41AA-991E-DD04D66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DA8-0D79-4B6F-8F84-B2787C86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13A8-38B9-4111-BACB-58E3232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EB5-FE0D-4BBA-95BE-0356B6A5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C7C-5FD8-4BEA-BEE5-D08E40D2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5AC-1970-402F-B563-FC1ACAD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4108-EE6E-4104-ACBD-F32A4CE0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D26-C9F0-41FA-99E0-73199A02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1DE0-A9CF-4D5E-8606-99139D01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A75-43A7-4F2B-9A19-1F2724EE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A66-4F1B-45C6-BDB9-00456A6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FF8-9985-449A-980F-D58A432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8DE-61B0-4C35-8418-8C1CC8E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9E0-55BF-4C03-AD79-69D59EA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A1C-BDB7-442F-B081-B389718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168-0B39-4566-9C12-53F4AA0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55B3-7684-4B04-974C-40EE255DB95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7B3-54CE-4DF6-B8E4-40987FF78F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2955-42D7-4C97-87CB-6BD203D44C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F642-837B-47DC-99C3-F481AEB0ED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390920" y="1617840"/>
            <a:ext cx="192744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0"/>
          <p:cNvSpPr/>
          <p:nvPr/>
        </p:nvSpPr>
        <p:spPr>
          <a:xfrm>
            <a:off x="2178000" y="5205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验收意见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12760" y="1617840"/>
            <a:ext cx="14605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8"/>
          <p:cNvSpPr/>
          <p:nvPr/>
        </p:nvSpPr>
        <p:spPr>
          <a:xfrm>
            <a:off x="127080" y="1873080"/>
            <a:ext cx="15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85840" y="2260440"/>
            <a:ext cx="1314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组织设计、施工单位进行工程竣工验收，并形成《工程竣工验收报告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178000" y="1625760"/>
            <a:ext cx="16099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8"/>
          <p:cNvSpPr/>
          <p:nvPr/>
        </p:nvSpPr>
        <p:spPr>
          <a:xfrm>
            <a:off x="2373480" y="1865160"/>
            <a:ext cx="118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4911480" y="1873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右箭头 31"/>
          <p:cNvSpPr/>
          <p:nvPr/>
        </p:nvSpPr>
        <p:spPr>
          <a:xfrm>
            <a:off x="3863880" y="2589120"/>
            <a:ext cx="473040" cy="17964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975360" y="1617840"/>
            <a:ext cx="146376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19"/>
          <p:cNvSpPr/>
          <p:nvPr/>
        </p:nvSpPr>
        <p:spPr>
          <a:xfrm>
            <a:off x="4963680" y="353376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7281720" y="169704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7162920" y="2995560"/>
            <a:ext cx="114300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验收意见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37"/>
          <p:cNvSpPr/>
          <p:nvPr/>
        </p:nvSpPr>
        <p:spPr>
          <a:xfrm rot="16200000">
            <a:off x="2584440" y="4326120"/>
            <a:ext cx="758880" cy="21240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7188120" y="357192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97160" y="2387520"/>
            <a:ext cx="13698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登陆“农民安居房审批管理系统”办理验收意见手续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557600" y="2295360"/>
            <a:ext cx="16416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房城乡建设部门会同自然资源、规划管理、城市管理综合执法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实地核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8923320" y="2631960"/>
            <a:ext cx="111240" cy="21798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 rot="16200000">
            <a:off x="5904360" y="1710000"/>
            <a:ext cx="103320" cy="6099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"/>
          <p:cNvSpPr/>
          <p:nvPr/>
        </p:nvSpPr>
        <p:spPr>
          <a:xfrm>
            <a:off x="6394320" y="2590920"/>
            <a:ext cx="559080" cy="17928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9"/>
          <p:cNvSpPr/>
          <p:nvPr/>
        </p:nvSpPr>
        <p:spPr>
          <a:xfrm>
            <a:off x="4680000" y="4357800"/>
            <a:ext cx="30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6318360" y="229536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右箭头 2"/>
          <p:cNvSpPr/>
          <p:nvPr/>
        </p:nvSpPr>
        <p:spPr>
          <a:xfrm>
            <a:off x="1735200" y="2590920"/>
            <a:ext cx="41112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3740040" y="226044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061040" y="247176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 rot="16200000">
            <a:off x="8703360" y="2426040"/>
            <a:ext cx="96840" cy="5079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7"/>
          <p:cNvSpPr/>
          <p:nvPr/>
        </p:nvSpPr>
        <p:spPr>
          <a:xfrm rot="5400000">
            <a:off x="7655040" y="28162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84160" y="787320"/>
          <a:ext cx="7372440" cy="14018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2801880"/>
                <a:gridCol w="1293840"/>
              </a:tblGrid>
              <a:tr h="4665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验收意见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竣工验收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、施工企业加盖公章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12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0:59:00Z</dcterms:created>
  <dc:creator>user</dc:creator>
  <dc:description/>
  <dc:language>en-US</dc:language>
  <cp:lastModifiedBy>Ming.</cp:lastModifiedBy>
  <dcterms:modified xsi:type="dcterms:W3CDTF">2023-09-04T07:50:37Z</dcterms:modified>
  <cp:revision>5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91C03613287411181549BF4E78219E4_12</vt:lpwstr>
  </property>
  <property fmtid="{D5CDD505-2E9C-101B-9397-08002B2CF9AE}" pid="3" name="KSOProductBuildVer">
    <vt:lpwstr>2052-12.1.0.15120</vt:lpwstr>
  </property>
</Properties>
</file>