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F97-58EA-4CD7-9D98-887AE4BA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AB6-1713-4A4F-9263-494E033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4DB-F7B7-4ED6-92C0-279455B2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EF9-07CF-4FB0-84C1-1DDD3C1A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543A-5D55-4D24-9CF3-9EAB1970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5125-0705-4418-9006-8401DF24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36E3-B2F8-4430-AB39-28BF617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828C-96F2-4B73-9DBE-3871B162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79D6-B04C-4F3F-A17C-B0759C95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3FD0-CCCD-429C-AA99-3F91A88B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7487-7A14-44DA-85A6-BAFADE6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324-27D2-4FBC-861E-01A71922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EFB1-7CDF-4385-8944-37CBAD7E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6732-B1E5-4AD4-A5DC-7BE06A9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C3A0-FED9-4086-B424-9798E603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EB50-7535-47FE-9608-5EEE9092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ED98-A9DF-4E1F-BA16-3E2F628B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6E21-DA87-44DE-8AD8-158B11ED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2AFF7-E67B-4E67-8C8D-3B7E0FD8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23A7-7A8E-4C47-B4C0-E0ABBB1D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6FAF-A8A9-43EF-9CED-42938FA1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96A9-83DD-45E0-9A15-65521C65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501-E5FD-41D6-B963-8CA2B92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4CE8-31BD-46AB-AA92-6A83A24F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EECF-BBAD-4716-897B-E70332B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0570-FA17-4BF3-94A4-2117CB21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4490-F737-483D-9F59-865E49A7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89F2-DB7D-4FCA-8F52-07D80E54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3458-C063-4134-853A-00585EB6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26D9-70C3-4083-8FE2-6C71DD8A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491C-DEDF-4941-8247-95C9B24E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6560-78AD-4A0F-805C-5C362963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92B3-B790-47C7-B2B7-2DF74EA7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3A2-878D-4E94-B2A4-B8AAD6A7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62C21-D5E2-4F38-817B-289FEDBB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FE28-6BBC-424F-9D49-A89C6684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F172-CB3F-4E1B-BD96-A1E34EA6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542A-F416-4933-82EB-62109304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B520F-CDAD-45E8-BD2D-D80A80BE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0B29-FF2D-4CB8-AAE1-93D7A1E4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2C8E-016F-4B03-A16F-E889DA6A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3033-911A-46FE-B09F-500286EE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8519-DF60-40DD-876A-498BAA6A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BE8-F020-45D2-9103-C8523E06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3F5-4D76-43E5-82C9-62FDB333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E78-8AF6-4CDC-B0D7-62051D9E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C5A-573B-441C-AC94-70DC782B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A40-3834-44F2-9975-26B9B758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81E2-49B3-4C71-AFB0-0C600A93173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E047-4D52-4402-9D2C-590EB3D4B7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D418-D83E-4BB6-B98C-92932C88135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B6E8-DA1B-4C4D-B44A-994C9F27750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5FD2-DC94-4E9F-A841-4B77E655CC6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27F3-E054-43CC-AF72-061BFCD3862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B5F2-9874-456E-A2CD-14667778126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87C0-8E38-4CCF-8A66-2340BB027C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0"/>
          <p:cNvSpPr/>
          <p:nvPr/>
        </p:nvSpPr>
        <p:spPr>
          <a:xfrm>
            <a:off x="628560" y="1317600"/>
            <a:ext cx="3681360" cy="19033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628560" y="3305160"/>
            <a:ext cx="3140280" cy="27529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768920" y="3359160"/>
            <a:ext cx="1960560" cy="274644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4894200" y="4025880"/>
            <a:ext cx="1681200" cy="6523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规划管理所、镇街住房城乡建设部门对建筑方案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754200" y="1589040"/>
            <a:ext cx="3381120" cy="146520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可在市镇两级政务服务中心或村（社区）党群服务中心窗口线下申请办理，也可以通过登陆“农民安居房审批管理系统”在线上申请办理。登陆农民安居房审批管理系统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选择“变更建筑方案”选项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及具体变更内容（总建筑面积、建筑层数、总建筑高度、房基占地面积、建筑外立面、其他），并填写相关信息，同时将新的房屋建筑方案上传系统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90"/>
          <p:cNvSpPr/>
          <p:nvPr/>
        </p:nvSpPr>
        <p:spPr>
          <a:xfrm>
            <a:off x="2146320" y="9828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变更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22400" y="704880"/>
            <a:ext cx="9150120" cy="439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28"/>
          <p:cNvSpPr/>
          <p:nvPr/>
        </p:nvSpPr>
        <p:spPr>
          <a:xfrm>
            <a:off x="754200" y="1341360"/>
            <a:ext cx="3252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一：变更建筑方案（施工牌出具前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28"/>
          <p:cNvSpPr/>
          <p:nvPr/>
        </p:nvSpPr>
        <p:spPr>
          <a:xfrm>
            <a:off x="936720" y="3456000"/>
            <a:ext cx="270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二：变更建筑方案和施工图纸（施工牌出具后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865080" y="4017960"/>
            <a:ext cx="2671920" cy="1827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可在市镇两级政务服务中心或村（社区）党群服务中心窗口线下申请办理，也可以通过登陆“农民安居房审批管理系统”在线上申请办理。登陆农民安居房审批管理系统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选择“变更建筑方案和施工图纸”选项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及具体变更内容（总建筑面积、建筑层数、总建筑高度、房基占地面积、建筑外立面、其他），并填写相关信息，同时将新的房屋建筑方案和施工图纸上传系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25"/>
          <p:cNvSpPr/>
          <p:nvPr/>
        </p:nvSpPr>
        <p:spPr>
          <a:xfrm>
            <a:off x="7578720" y="1459080"/>
            <a:ext cx="116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7637400" y="2087640"/>
            <a:ext cx="1055880" cy="5619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19"/>
          <p:cNvSpPr/>
          <p:nvPr/>
        </p:nvSpPr>
        <p:spPr>
          <a:xfrm>
            <a:off x="5562000" y="280836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19"/>
          <p:cNvSpPr/>
          <p:nvPr/>
        </p:nvSpPr>
        <p:spPr>
          <a:xfrm>
            <a:off x="7740720" y="2808360"/>
            <a:ext cx="109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右箭头 28"/>
          <p:cNvSpPr/>
          <p:nvPr/>
        </p:nvSpPr>
        <p:spPr>
          <a:xfrm>
            <a:off x="4443480" y="2241720"/>
            <a:ext cx="554040" cy="17604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28"/>
          <p:cNvSpPr/>
          <p:nvPr/>
        </p:nvSpPr>
        <p:spPr>
          <a:xfrm>
            <a:off x="595440" y="789120"/>
            <a:ext cx="134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变更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1468440" y="789120"/>
            <a:ext cx="67849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建筑方案；②施工图纸；③农房建设批准书；④农房建设施工牌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13"/>
          <p:cNvSpPr/>
          <p:nvPr/>
        </p:nvSpPr>
        <p:spPr>
          <a:xfrm>
            <a:off x="5468760" y="1641600"/>
            <a:ext cx="1054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街部门联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右箭头 42"/>
          <p:cNvSpPr/>
          <p:nvPr/>
        </p:nvSpPr>
        <p:spPr>
          <a:xfrm>
            <a:off x="3889440" y="4689360"/>
            <a:ext cx="731880" cy="179640"/>
          </a:xfrm>
          <a:prstGeom prst="rightArrow">
            <a:avLst>
              <a:gd name="adj1" fmla="val 50000"/>
              <a:gd name="adj2" fmla="val 55284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右箭头 43"/>
          <p:cNvSpPr/>
          <p:nvPr/>
        </p:nvSpPr>
        <p:spPr>
          <a:xfrm>
            <a:off x="6827760" y="4678200"/>
            <a:ext cx="557280" cy="19080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5292720" y="2016000"/>
            <a:ext cx="1330200" cy="5875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规划管理所、镇街住房城乡建设部门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右箭头 3"/>
          <p:cNvSpPr/>
          <p:nvPr/>
        </p:nvSpPr>
        <p:spPr>
          <a:xfrm>
            <a:off x="6856560" y="2235240"/>
            <a:ext cx="581040" cy="1839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3"/>
          <p:cNvSpPr/>
          <p:nvPr/>
        </p:nvSpPr>
        <p:spPr>
          <a:xfrm>
            <a:off x="5207040" y="5040360"/>
            <a:ext cx="1136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街住建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4894200" y="5327640"/>
            <a:ext cx="1733760" cy="3589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对施工图纸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19"/>
          <p:cNvSpPr/>
          <p:nvPr/>
        </p:nvSpPr>
        <p:spPr>
          <a:xfrm>
            <a:off x="5380920" y="585144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25"/>
          <p:cNvSpPr/>
          <p:nvPr/>
        </p:nvSpPr>
        <p:spPr>
          <a:xfrm>
            <a:off x="7702560" y="3699000"/>
            <a:ext cx="116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7562880" y="4424400"/>
            <a:ext cx="1442880" cy="6411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核发《农房建设批准书》和《农房建设施工牌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19"/>
          <p:cNvSpPr/>
          <p:nvPr/>
        </p:nvSpPr>
        <p:spPr>
          <a:xfrm>
            <a:off x="7843680" y="5191200"/>
            <a:ext cx="109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3"/>
          <p:cNvSpPr/>
          <p:nvPr/>
        </p:nvSpPr>
        <p:spPr>
          <a:xfrm>
            <a:off x="5175360" y="3703680"/>
            <a:ext cx="1054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街部门联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5133960" y="1527120"/>
            <a:ext cx="1674720" cy="15811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7488360" y="1449360"/>
            <a:ext cx="1423800" cy="164484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7483320" y="3602160"/>
            <a:ext cx="1675080" cy="187308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0"/>
          <p:cNvSpPr/>
          <p:nvPr/>
        </p:nvSpPr>
        <p:spPr>
          <a:xfrm>
            <a:off x="4809960" y="5973840"/>
            <a:ext cx="3934080" cy="10620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4917960" y="4317840"/>
            <a:ext cx="3129120" cy="70344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425760" y="1104840"/>
            <a:ext cx="3130560" cy="70488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73080" y="625320"/>
            <a:ext cx="2543040" cy="31878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743040" y="4075200"/>
            <a:ext cx="3405240" cy="30369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682040" y="1989000"/>
            <a:ext cx="1436400" cy="20862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144360" y="2130480"/>
            <a:ext cx="2354400" cy="144468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申请人可在市镇两级政务服务中心或村（社区）党群服务中心窗口线下申请办理，也可以通过登陆“农民安居房审批管理系统”在线上申请办理。线上申请办理流程如下：申请人登陆农民安居房审批管理系统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选择“变更农房建设批准书”选项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，重新提交办理建设批准手续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90"/>
          <p:cNvSpPr/>
          <p:nvPr/>
        </p:nvSpPr>
        <p:spPr>
          <a:xfrm>
            <a:off x="2273400" y="7128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办理变更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28"/>
          <p:cNvSpPr/>
          <p:nvPr/>
        </p:nvSpPr>
        <p:spPr>
          <a:xfrm>
            <a:off x="289080" y="720720"/>
            <a:ext cx="25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情况三：变更农房建设批准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28"/>
          <p:cNvSpPr/>
          <p:nvPr/>
        </p:nvSpPr>
        <p:spPr>
          <a:xfrm>
            <a:off x="1355760" y="4103640"/>
            <a:ext cx="201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情况四：变更农房施工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25"/>
          <p:cNvSpPr/>
          <p:nvPr/>
        </p:nvSpPr>
        <p:spPr>
          <a:xfrm>
            <a:off x="7810560" y="2130480"/>
            <a:ext cx="116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7818480" y="2809800"/>
            <a:ext cx="1111320" cy="94932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重新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农房建设批准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，系统同步更新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农房建设施工牌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19"/>
          <p:cNvSpPr/>
          <p:nvPr/>
        </p:nvSpPr>
        <p:spPr>
          <a:xfrm>
            <a:off x="7885080" y="3813120"/>
            <a:ext cx="109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右箭头 28"/>
          <p:cNvSpPr/>
          <p:nvPr/>
        </p:nvSpPr>
        <p:spPr>
          <a:xfrm>
            <a:off x="2665440" y="2952720"/>
            <a:ext cx="561960" cy="16200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529080" y="1222200"/>
            <a:ext cx="28591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按照（情况一、二）与建筑方案或施工图纸变更同步办理，无需另行提交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右箭头 43"/>
          <p:cNvSpPr/>
          <p:nvPr/>
        </p:nvSpPr>
        <p:spPr>
          <a:xfrm>
            <a:off x="5173560" y="2936880"/>
            <a:ext cx="398520" cy="1602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右箭头 3"/>
          <p:cNvSpPr/>
          <p:nvPr/>
        </p:nvSpPr>
        <p:spPr>
          <a:xfrm>
            <a:off x="7273800" y="2936880"/>
            <a:ext cx="333360" cy="1602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1355760" y="4435560"/>
            <a:ext cx="221148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变更《农房建设施工牌》中建筑基本信息（总建筑面积、建筑层数、总建筑高度、房基占地面积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3243240" y="1989000"/>
            <a:ext cx="1882800" cy="20862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3438360" y="251460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公示报建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467160" y="335772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审查申请信息及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右箭头 7"/>
          <p:cNvSpPr/>
          <p:nvPr/>
        </p:nvSpPr>
        <p:spPr>
          <a:xfrm rot="5400000">
            <a:off x="4072320" y="2972520"/>
            <a:ext cx="398520" cy="18756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3833280" y="376704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8"/>
          <p:cNvSpPr/>
          <p:nvPr/>
        </p:nvSpPr>
        <p:spPr>
          <a:xfrm>
            <a:off x="3800880" y="216216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村（社区）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5691240" y="2606760"/>
            <a:ext cx="1395360" cy="72864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镇街住建、农林水务、自然资源、规划所、城管等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审查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19"/>
          <p:cNvSpPr/>
          <p:nvPr/>
        </p:nvSpPr>
        <p:spPr>
          <a:xfrm>
            <a:off x="5967000" y="3524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文本框 13"/>
          <p:cNvSpPr/>
          <p:nvPr/>
        </p:nvSpPr>
        <p:spPr>
          <a:xfrm>
            <a:off x="6004800" y="22543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镇街部门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5619600" y="1989000"/>
            <a:ext cx="1568520" cy="20862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144360" y="1152360"/>
            <a:ext cx="2354400" cy="5875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变更《农房建设批准书》中建筑基本信息（总建筑面积、建筑层数、总建筑高度、房基占地面积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右箭头 18"/>
          <p:cNvSpPr/>
          <p:nvPr/>
        </p:nvSpPr>
        <p:spPr>
          <a:xfrm>
            <a:off x="2681280" y="1365120"/>
            <a:ext cx="561960" cy="16200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1355760" y="5184720"/>
            <a:ext cx="221148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变更《农房建设施工牌》中其他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936720" y="5786280"/>
            <a:ext cx="3027240" cy="12495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申请人可在市镇两级政务服务中心或村（社区）党群服务中心窗口申请办理，也可以通过登陆“农民安居房审批管理系统”在线上申请办理。线上申请办理流程如下：申请人登陆农民安居房审批管理系统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选择“变更农房建设施工牌”选项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及具体变更内容，并填写相关信息，同时将有关合同签章页扫描件等上传系统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右箭头 26"/>
          <p:cNvSpPr/>
          <p:nvPr/>
        </p:nvSpPr>
        <p:spPr>
          <a:xfrm>
            <a:off x="4224240" y="6372360"/>
            <a:ext cx="561960" cy="17604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4917960" y="6249960"/>
            <a:ext cx="1376640" cy="4525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对施工牌内容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13"/>
          <p:cNvSpPr/>
          <p:nvPr/>
        </p:nvSpPr>
        <p:spPr>
          <a:xfrm>
            <a:off x="5037120" y="5985000"/>
            <a:ext cx="1136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镇街住建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31"/>
          <p:cNvSpPr/>
          <p:nvPr/>
        </p:nvSpPr>
        <p:spPr>
          <a:xfrm>
            <a:off x="6247800" y="675000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6958080" y="6238800"/>
            <a:ext cx="1428840" cy="46368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系统同步更新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农房建设施工牌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右箭头 33"/>
          <p:cNvSpPr/>
          <p:nvPr/>
        </p:nvSpPr>
        <p:spPr>
          <a:xfrm>
            <a:off x="6427800" y="6372360"/>
            <a:ext cx="398520" cy="17604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5019840" y="4435560"/>
            <a:ext cx="28605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按照（情况一、二）与与建筑方案或施工图纸变更同步办理，无需另行提交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右箭头 36"/>
          <p:cNvSpPr/>
          <p:nvPr/>
        </p:nvSpPr>
        <p:spPr>
          <a:xfrm>
            <a:off x="4248000" y="4581360"/>
            <a:ext cx="561960" cy="1764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右箭头 37"/>
          <p:cNvSpPr/>
          <p:nvPr/>
        </p:nvSpPr>
        <p:spPr>
          <a:xfrm>
            <a:off x="4249800" y="5398920"/>
            <a:ext cx="561960" cy="1764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5014800" y="5146560"/>
            <a:ext cx="2233800" cy="6289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5297400" y="5329080"/>
            <a:ext cx="1557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按照（情况三）办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936720" y="289080"/>
          <a:ext cx="7372080" cy="6445080"/>
        </p:xfrm>
        <a:graphic>
          <a:graphicData uri="http://schemas.openxmlformats.org/drawingml/2006/table">
            <a:tbl>
              <a:tblPr/>
              <a:tblGrid>
                <a:gridCol w="545760"/>
                <a:gridCol w="1987560"/>
                <a:gridCol w="3535200"/>
                <a:gridCol w="1303560"/>
              </a:tblGrid>
              <a:tr h="41904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建筑方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76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拟建房屋建筑方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拟建房屋与宅基地坐落总平面图、每层平面图、前后左右立面图等；提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版图形文件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477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份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1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施工图纸需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15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批准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份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8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土地权属证明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集体土地使用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不动产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村宅基地批准书；遗失土地使用权证、不动产权证的，以不动产登记部门出具的查档证明代替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6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报建地块用地红线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可将红线图各点地理坐标直接录入报建系统；或上传由具备资质的测绘机构出具的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0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坐标系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14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本地村民可不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户口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下载签字后上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244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936720" y="216000"/>
          <a:ext cx="7372080" cy="2876400"/>
        </p:xfrm>
        <a:graphic>
          <a:graphicData uri="http://schemas.openxmlformats.org/drawingml/2006/table">
            <a:tbl>
              <a:tblPr/>
              <a:tblGrid>
                <a:gridCol w="545760"/>
                <a:gridCol w="1987560"/>
                <a:gridCol w="3535200"/>
                <a:gridCol w="1303560"/>
              </a:tblGrid>
              <a:tr h="396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施工牌（变更施工单位、设计单位、勘察单位及其负责人信息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9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签章页上传到农民安居房审批管理系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签章页上传到农民安居房审批管理系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9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勘察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签章页上传到农民安居房审批管理系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246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6:59:00Z</dcterms:created>
  <dc:creator>user</dc:creator>
  <dc:description/>
  <dc:language>en-US</dc:language>
  <cp:lastModifiedBy>Ming.</cp:lastModifiedBy>
  <dcterms:modified xsi:type="dcterms:W3CDTF">2023-09-04T08:19:11Z</dcterms:modified>
  <cp:revision>5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7990859B1BE4A3A81339353E4AA4508_12</vt:lpwstr>
  </property>
  <property fmtid="{D5CDD505-2E9C-101B-9397-08002B2CF9AE}" pid="3" name="KSOProductBuildVer">
    <vt:lpwstr>2052-12.1.0.15120</vt:lpwstr>
  </property>
</Properties>
</file>