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FE9A-DC88-4441-A62C-54A66EA2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134-7688-40F1-93BC-C1893B8F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606-A224-490A-99CA-2C04794D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5AE-443E-4021-A28F-1C4A7CCC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FCA5-F8F6-4E87-A299-AA992BF4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886D-1F2E-4B60-9204-2815AD1F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FE9A-2B93-41E4-BA12-86F60A7A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2C42-37C3-4CF4-A8B8-B61923A0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20D4-5881-4892-A176-81111102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8459-8817-4D6C-9E57-D99F6016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9FE7-36A6-4682-979E-53661808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BC9-3121-4FA4-BD27-4EA2C4FF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FD9-A74E-4679-A643-1AE728D4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A186-D1D3-4088-8E83-C520BAD3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17CC-FC35-41BD-8EDD-A82C0AD0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6083-D403-4F83-871B-7CC167C4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0846-C8B3-4AC6-A732-91AE937A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090-7EDC-4574-BBE8-AB4CA396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B8B-D610-43F8-A494-3659DBE0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EB2B-E560-4636-AA50-306BD19F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2E74-5059-43CA-9BDE-2FB9F0E2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BD0-4D72-410C-9747-9D470B39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9D5-6CD5-4CCC-AEC8-4744E92C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387-63B3-48A7-A32B-82E1EAFC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F354-619B-4530-99F0-522F5A905EA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62F6-B41E-4E4D-8290-DE22C837EA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89A1-B3F8-489B-A7E3-FBA46202366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BE50-ADFE-47B0-86C1-9EC74DD72F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1220760" y="1368360"/>
            <a:ext cx="3029040" cy="3967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 flipH="1">
            <a:off x="4803840" y="1343160"/>
            <a:ext cx="2503440" cy="3944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1100" spc="-1" strike="noStrike">
                <a:solidFill>
                  <a:srgbClr val="000000"/>
                </a:solidFill>
                <a:latin typeface="Calibri"/>
              </a:rPr>
              <a:t>（三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90"/>
          <p:cNvSpPr/>
          <p:nvPr/>
        </p:nvSpPr>
        <p:spPr>
          <a:xfrm>
            <a:off x="2179800" y="60156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工程质量安全监管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373040" y="4484520"/>
            <a:ext cx="2732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线上办理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右箭头 31"/>
          <p:cNvSpPr/>
          <p:nvPr/>
        </p:nvSpPr>
        <p:spPr>
          <a:xfrm>
            <a:off x="4303800" y="4751280"/>
            <a:ext cx="431640" cy="181080"/>
          </a:xfrm>
          <a:prstGeom prst="rightArrow">
            <a:avLst>
              <a:gd name="adj1" fmla="val 50000"/>
              <a:gd name="adj2" fmla="val 49947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8"/>
          <p:cNvSpPr/>
          <p:nvPr/>
        </p:nvSpPr>
        <p:spPr>
          <a:xfrm>
            <a:off x="5505480" y="4863960"/>
            <a:ext cx="116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262480" y="3929040"/>
            <a:ext cx="165276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8"/>
          <p:cNvSpPr/>
          <p:nvPr/>
        </p:nvSpPr>
        <p:spPr>
          <a:xfrm>
            <a:off x="2046240" y="4189320"/>
            <a:ext cx="1235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8"/>
          <p:cNvSpPr/>
          <p:nvPr/>
        </p:nvSpPr>
        <p:spPr>
          <a:xfrm>
            <a:off x="1838160" y="1440000"/>
            <a:ext cx="180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右箭头 13"/>
          <p:cNvSpPr/>
          <p:nvPr/>
        </p:nvSpPr>
        <p:spPr>
          <a:xfrm rot="5400000">
            <a:off x="2544480" y="3938400"/>
            <a:ext cx="236520" cy="195480"/>
          </a:xfrm>
          <a:prstGeom prst="rightArrow">
            <a:avLst>
              <a:gd name="adj1" fmla="val 50000"/>
              <a:gd name="adj2" fmla="val 499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39"/>
          <p:cNvSpPr/>
          <p:nvPr/>
        </p:nvSpPr>
        <p:spPr>
          <a:xfrm>
            <a:off x="4160880" y="5656320"/>
            <a:ext cx="302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5237280" y="2232000"/>
            <a:ext cx="1677960" cy="453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建部门对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7"/>
          <p:cNvSpPr/>
          <p:nvPr/>
        </p:nvSpPr>
        <p:spPr>
          <a:xfrm>
            <a:off x="8201160" y="2298600"/>
            <a:ext cx="75960" cy="37879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8"/>
          <p:cNvSpPr/>
          <p:nvPr/>
        </p:nvSpPr>
        <p:spPr>
          <a:xfrm rot="16200000">
            <a:off x="5404680" y="3215520"/>
            <a:ext cx="77760" cy="5667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右箭头 37"/>
          <p:cNvSpPr/>
          <p:nvPr/>
        </p:nvSpPr>
        <p:spPr>
          <a:xfrm rot="16200000">
            <a:off x="2288160" y="5658480"/>
            <a:ext cx="706320" cy="15228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右箭头 1"/>
          <p:cNvSpPr/>
          <p:nvPr/>
        </p:nvSpPr>
        <p:spPr>
          <a:xfrm rot="5400000">
            <a:off x="5675400" y="3221640"/>
            <a:ext cx="758880" cy="18252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2"/>
          <p:cNvSpPr/>
          <p:nvPr/>
        </p:nvSpPr>
        <p:spPr>
          <a:xfrm rot="5400000">
            <a:off x="7776720" y="1950840"/>
            <a:ext cx="76320" cy="77148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3"/>
          <p:cNvSpPr/>
          <p:nvPr/>
        </p:nvSpPr>
        <p:spPr>
          <a:xfrm>
            <a:off x="5969880" y="2932200"/>
            <a:ext cx="545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368360" y="1712880"/>
            <a:ext cx="2732040" cy="1600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申请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图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⑥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⑧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房屋安全鉴定报告（扩（加）建的农房需要提供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图审查报告（建筑层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层及以上的农房需提供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41320" y="600120"/>
          <a:ext cx="7980480" cy="6107040"/>
        </p:xfrm>
        <a:graphic>
          <a:graphicData uri="http://schemas.openxmlformats.org/drawingml/2006/table">
            <a:tbl>
              <a:tblPr/>
              <a:tblGrid>
                <a:gridCol w="754200"/>
                <a:gridCol w="2531880"/>
                <a:gridCol w="3268800"/>
                <a:gridCol w="142560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农房工程质量安全监管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47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通用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叠加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资质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资质证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应取得建设行政主管部门颁发的相应资质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03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复印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详见附件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非通用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房屋结构安全鉴定报告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扩（加）建的农房需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审查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筑层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层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及以上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的农房需提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原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0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08:59:00Z</dcterms:created>
  <dc:creator>user</dc:creator>
  <dc:description/>
  <dc:language>en-US</dc:language>
  <cp:lastModifiedBy>Ming.</cp:lastModifiedBy>
  <dcterms:modified xsi:type="dcterms:W3CDTF">2023-09-04T08:33:36Z</dcterms:modified>
  <cp:revision>5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B9AD54C8B5E04C8791E3C12CD1DAECD5_12</vt:lpwstr>
  </property>
  <property fmtid="{D5CDD505-2E9C-101B-9397-08002B2CF9AE}" pid="3" name="KSOProductBuildVer">
    <vt:lpwstr>2052-12.1.0.15120</vt:lpwstr>
  </property>
</Properties>
</file>