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C3C1-ADF0-4B29-8B96-1F9E2127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119-248A-45A0-9337-0AD4BD42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FA4-E632-47AF-8D32-F5EBABAC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F57-A825-477F-81C2-FC8546AC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887CA-42CD-4C47-81EB-0ECA6C7A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A82E-EDBF-4346-BDF7-54057657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489D-B67A-450F-B37D-A211314A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FFC1-04FF-4CA7-8EEF-62146A55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9DD08-4C90-42B3-A619-1715F087C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E255-9658-4C25-90EF-F66337A1A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952-C9D9-40B9-9DFF-6FDA61F2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72BF-D7B3-4547-A467-31461974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C49-DD75-488F-86B8-A6EB537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ABBA-D8E0-43AB-AB5A-2E3B3E8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98C0-A028-42BD-986A-BE5CD447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1F24-F68B-48CB-A2BA-A48299725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5AD4-8A52-4942-909C-B8B09FC1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D388-69FA-4CBC-B288-A42911AA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3A3-28F1-4CC3-B9BF-9175BF71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992-E386-4A24-9DC2-2FF1383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5DEB-2D87-4B8B-BA0C-E93ABBC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ABC-A323-483C-8AA8-E7134C3C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A8F-0095-489B-8425-3BE166C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33FD-E7FC-47E2-B87C-547E1793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F3E9-C618-411E-B720-9BFDAB43485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589C-B5CC-4E72-BD80-01371B2C5B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E56E-C361-491A-BDA0-9B181267D27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419F-7901-4840-BC55-2E826901BA6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351000" y="1658880"/>
            <a:ext cx="1989000" cy="54691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7475400" y="2835360"/>
            <a:ext cx="153360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51000" y="541440"/>
            <a:ext cx="1989000" cy="1098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272200" y="2835360"/>
            <a:ext cx="162864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992320" y="2849400"/>
            <a:ext cx="1717920" cy="29397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90"/>
          <p:cNvSpPr/>
          <p:nvPr/>
        </p:nvSpPr>
        <p:spPr>
          <a:xfrm>
            <a:off x="2179800" y="601560"/>
            <a:ext cx="54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建设批准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474840" y="5705640"/>
            <a:ext cx="17730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下载确认，并签字扫描后，连同前期准备资料，一并上传至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31"/>
          <p:cNvSpPr/>
          <p:nvPr/>
        </p:nvSpPr>
        <p:spPr>
          <a:xfrm>
            <a:off x="2433600" y="4471920"/>
            <a:ext cx="477720" cy="16200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3070080" y="349884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公示报建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070080" y="476244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查申请信息及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右箭头 5"/>
          <p:cNvSpPr/>
          <p:nvPr/>
        </p:nvSpPr>
        <p:spPr>
          <a:xfrm rot="5400000">
            <a:off x="3589920" y="4175640"/>
            <a:ext cx="490680" cy="16200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8"/>
          <p:cNvSpPr/>
          <p:nvPr/>
        </p:nvSpPr>
        <p:spPr>
          <a:xfrm>
            <a:off x="3418920" y="53989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右箭头 9"/>
          <p:cNvSpPr/>
          <p:nvPr/>
        </p:nvSpPr>
        <p:spPr>
          <a:xfrm>
            <a:off x="4761000" y="4484520"/>
            <a:ext cx="474480" cy="13680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5619600" y="317808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四）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5415120" y="3611520"/>
            <a:ext cx="1395360" cy="1098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农林水务、自然资源、规划管理、城市管理综合执法、住房城乡建设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查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19"/>
          <p:cNvSpPr/>
          <p:nvPr/>
        </p:nvSpPr>
        <p:spPr>
          <a:xfrm>
            <a:off x="5630400" y="550548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1"/>
          <p:cNvSpPr/>
          <p:nvPr/>
        </p:nvSpPr>
        <p:spPr>
          <a:xfrm>
            <a:off x="7670880" y="4960800"/>
            <a:ext cx="121428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25"/>
          <p:cNvSpPr/>
          <p:nvPr/>
        </p:nvSpPr>
        <p:spPr>
          <a:xfrm>
            <a:off x="7843680" y="2967120"/>
            <a:ext cx="85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五）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7"/>
          <p:cNvSpPr/>
          <p:nvPr/>
        </p:nvSpPr>
        <p:spPr>
          <a:xfrm>
            <a:off x="7854480" y="549432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右箭头 36"/>
          <p:cNvSpPr/>
          <p:nvPr/>
        </p:nvSpPr>
        <p:spPr>
          <a:xfrm rot="10800000">
            <a:off x="2554200" y="6699240"/>
            <a:ext cx="6670800" cy="117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9"/>
          <p:cNvSpPr/>
          <p:nvPr/>
        </p:nvSpPr>
        <p:spPr>
          <a:xfrm>
            <a:off x="4782960" y="6372360"/>
            <a:ext cx="315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8"/>
          <p:cNvSpPr/>
          <p:nvPr/>
        </p:nvSpPr>
        <p:spPr>
          <a:xfrm>
            <a:off x="3342600" y="3135240"/>
            <a:ext cx="101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三）村（社区）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8"/>
          <p:cNvSpPr/>
          <p:nvPr/>
        </p:nvSpPr>
        <p:spPr>
          <a:xfrm>
            <a:off x="658800" y="1727280"/>
            <a:ext cx="13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520560" y="658800"/>
            <a:ext cx="1495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517680" y="919080"/>
            <a:ext cx="1603080" cy="5961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土地权属证明材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报建地块用地红线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拟建房屋建筑方案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441360" y="1987560"/>
            <a:ext cx="1814400" cy="1771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申请办理，也可以登陆『广东政务服务网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东莞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工程建设项目审批』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『农民安居房审批管理系统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网址：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http://zwfw.dg.gov.cn/aplanmis-mall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428760" y="4960800"/>
            <a:ext cx="181764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系统自动生成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申请表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428760" y="4103640"/>
            <a:ext cx="181440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点击『农民安居房审批』，填写基本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右箭头 2"/>
          <p:cNvSpPr/>
          <p:nvPr/>
        </p:nvSpPr>
        <p:spPr>
          <a:xfrm rot="5400000">
            <a:off x="1193760" y="472608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右箭头 3"/>
          <p:cNvSpPr/>
          <p:nvPr/>
        </p:nvSpPr>
        <p:spPr>
          <a:xfrm rot="5400000">
            <a:off x="1193760" y="389592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638280" y="6632640"/>
            <a:ext cx="1377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点击『发起申报』，提交申请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右箭头 7"/>
          <p:cNvSpPr/>
          <p:nvPr/>
        </p:nvSpPr>
        <p:spPr>
          <a:xfrm rot="5400000">
            <a:off x="1193760" y="549756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右箭头 8"/>
          <p:cNvSpPr/>
          <p:nvPr/>
        </p:nvSpPr>
        <p:spPr>
          <a:xfrm rot="5400000">
            <a:off x="1182600" y="6429240"/>
            <a:ext cx="190440" cy="76320"/>
          </a:xfrm>
          <a:prstGeom prst="rightArrow">
            <a:avLst>
              <a:gd name="adj1" fmla="val 50000"/>
              <a:gd name="adj2" fmla="val 49906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6962040" y="41752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9147240" y="3659040"/>
            <a:ext cx="77760" cy="31165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1"/>
          <p:cNvSpPr/>
          <p:nvPr/>
        </p:nvSpPr>
        <p:spPr>
          <a:xfrm>
            <a:off x="4740120" y="415116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符合条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8"/>
          <p:cNvSpPr/>
          <p:nvPr/>
        </p:nvSpPr>
        <p:spPr>
          <a:xfrm>
            <a:off x="3813120" y="5880240"/>
            <a:ext cx="76320" cy="81900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570800" y="3565440"/>
            <a:ext cx="1343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核联审部门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右箭头 21"/>
          <p:cNvSpPr/>
          <p:nvPr/>
        </p:nvSpPr>
        <p:spPr>
          <a:xfrm rot="5400000">
            <a:off x="7867080" y="4340160"/>
            <a:ext cx="784080" cy="174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1"/>
          <p:cNvSpPr/>
          <p:nvPr/>
        </p:nvSpPr>
        <p:spPr>
          <a:xfrm>
            <a:off x="2414520" y="4189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27"/>
          <p:cNvSpPr/>
          <p:nvPr/>
        </p:nvSpPr>
        <p:spPr>
          <a:xfrm>
            <a:off x="8415360" y="4060800"/>
            <a:ext cx="3477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符合条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28"/>
          <p:cNvSpPr/>
          <p:nvPr/>
        </p:nvSpPr>
        <p:spPr>
          <a:xfrm>
            <a:off x="398160" y="260280"/>
            <a:ext cx="579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右箭头 4"/>
          <p:cNvSpPr/>
          <p:nvPr/>
        </p:nvSpPr>
        <p:spPr>
          <a:xfrm>
            <a:off x="6964200" y="4486320"/>
            <a:ext cx="476280" cy="1350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6"/>
          <p:cNvSpPr/>
          <p:nvPr/>
        </p:nvSpPr>
        <p:spPr>
          <a:xfrm rot="16200000">
            <a:off x="9084240" y="3596400"/>
            <a:ext cx="76320" cy="19836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955800" y="887400"/>
          <a:ext cx="7372080" cy="512460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2801880"/>
                <a:gridCol w="1293840"/>
              </a:tblGrid>
              <a:tr h="4953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建设批准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土地权属证明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集体土地使用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动产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村宅基地批准书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遗失土地使用权证、不动产权证的，以不动产登记部门出具的查档证明代替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1155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地块用地红线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将红线图各点地理坐标直接录入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；或上传由具备资质的测绘机构出具的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坐标系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68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拟建房屋与宅基地坐落总平面图、每层平面图、前后左右立面图等；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版图形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6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本地村民可不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户口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下载签字后上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28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1T00:59:00Z</dcterms:created>
  <dc:creator>user</dc:creator>
  <dc:description/>
  <dc:language>en-US</dc:language>
  <cp:lastModifiedBy>Ming.</cp:lastModifiedBy>
  <dcterms:modified xsi:type="dcterms:W3CDTF">2023-09-04T07:04:22Z</dcterms:modified>
  <cp:revision>5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84183771C364413AA937F5A190712DA3_12</vt:lpwstr>
  </property>
  <property fmtid="{D5CDD505-2E9C-101B-9397-08002B2CF9AE}" pid="3" name="KSOProductBuildVer">
    <vt:lpwstr>2052-12.1.0.15120</vt:lpwstr>
  </property>
</Properties>
</file>