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359900" cy="71993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B12-4721-4D31-AB38-58CF4761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C35C-A96B-4ED3-8A97-9EE31710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941-7B05-4153-9BDF-9811EE74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8D0-D851-41F4-A5E1-E05B2A25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8E5C-5875-4BF8-91F6-73C6C8810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620F-307B-485D-8887-30520E81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8FE2-A004-4CBB-8AD0-A59A4A3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B3CC-827F-48A7-91DD-262C411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6B5A-0491-4A0A-B9C8-3E462ED6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B757-C590-4379-9EBE-1B3AD28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E7E81-ADCA-4C19-B2FF-B5F541E9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9B4-6EA7-48B3-A30B-E097DE7B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7892-146E-467A-B550-FFEF073C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6705-FBF8-4324-9C17-28F2663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7D96-79DE-4458-94A3-F896F5BE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04C6-78CC-4B5F-8972-71A40456B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380C-8697-45A5-9ED0-D9ECEAB5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1399-F6DA-474B-85DB-F77941B0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325C3-BD3C-4B14-B78F-4FC9F394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2A11-D9AF-4A6C-9F45-8326674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E3D0-425D-49FA-9736-34E2A49A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B08E-59D8-4293-A492-EE5D987B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4EE6-F17D-4CD2-8415-8643D0C5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B2D1-A1DA-4B0B-AFB5-80D320D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A2C53-7AEF-4947-8B9A-9C9CDA4F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24B4-BAB7-4A73-B16D-545A232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CE3D-1E13-4A4D-AEE8-3CBFE33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BB304-0FB2-49D8-A39F-404A6D3A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ED31-9A6A-4411-8CD9-B8EC1CB8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F2A5F-65DE-43FD-AC9B-C0A339B4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B0970-8B71-4E2D-8482-7E97EBE3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54AA-87BC-4A21-996E-948311C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D24B9-4A6F-44FB-BF0D-33BDD4C7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3E0-A2EF-4D5D-9ACC-25C724AE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ED978-AB0E-463F-ADA6-D9E0F4F6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48CC-9C80-45B9-8BB9-7D1AA3B9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D996-0342-45C9-9F04-76CCEFD3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7FF83-B672-4C53-AFD1-BF6A7EC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6DB3-3249-40B7-9D9F-8DE27D7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608AF-1B1C-436F-A173-6DDD1795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5266E-8E50-45CC-B41F-FC0F8A6A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323F1-D098-405B-8E42-3B3A717C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A5B40-C9EA-4980-B18F-F7A09EA4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303-EEA5-4DB6-8705-F40D6EB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938C-6A5D-4BBE-8FA8-672E2C4C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D88-CAC9-4A19-B2E3-D63C3371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2491-0053-4F70-AED5-8D63E559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9EB-1596-4574-AF7C-BEC30429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809-6194-4308-BC91-923CECE9C87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C29D-FA78-4123-95BB-AB33D5134D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F8B-D562-4074-AAEE-A59C699DC76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7BB-5089-448E-8F1B-440E40DC07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AA82-5A11-42FC-A812-027811E88B0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B00B-EE8D-4988-9161-4736D499B2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6836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95E5-4B8E-4264-ADC3-7A84846C9E08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98600" y="6673680"/>
            <a:ext cx="29638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08600" y="6673680"/>
            <a:ext cx="218448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F631-CAD5-41B6-9231-F31D87938A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0"/>
          <p:cNvSpPr/>
          <p:nvPr/>
        </p:nvSpPr>
        <p:spPr>
          <a:xfrm>
            <a:off x="628560" y="1317600"/>
            <a:ext cx="3681360" cy="19033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628560" y="3305160"/>
            <a:ext cx="3140280" cy="27529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4768920" y="3359160"/>
            <a:ext cx="1960560" cy="27464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4894200" y="4025880"/>
            <a:ext cx="1681200" cy="6523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规划管理所、镇街住房城乡建设部门对建筑方案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754200" y="1589040"/>
            <a:ext cx="3381120" cy="146520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在线上申请办理。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选择“变更建筑方案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及具体变更内容（总建筑面积、建筑层数、总建筑高度、房基占地面积、建筑外立面、其他），并填写相关信息，同时将新的房屋建筑方案上传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90"/>
          <p:cNvSpPr/>
          <p:nvPr/>
        </p:nvSpPr>
        <p:spPr>
          <a:xfrm>
            <a:off x="2146320" y="9828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理变更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22400" y="704880"/>
            <a:ext cx="9150120" cy="4395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28"/>
          <p:cNvSpPr/>
          <p:nvPr/>
        </p:nvSpPr>
        <p:spPr>
          <a:xfrm>
            <a:off x="754200" y="1341360"/>
            <a:ext cx="3252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一：变更建筑方案（施工牌出具前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28"/>
          <p:cNvSpPr/>
          <p:nvPr/>
        </p:nvSpPr>
        <p:spPr>
          <a:xfrm>
            <a:off x="936720" y="3456000"/>
            <a:ext cx="270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情况二：变更建筑方案和施工图纸（施工牌出具后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865080" y="4017960"/>
            <a:ext cx="2671920" cy="1827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申请人可在市镇两级政务服务中心或村（社区）党群服务中心窗口线下申请办理，也可以通过登陆“农民安居房审批管理系统”在线上申请办理。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选择“变更建筑方案和施工图纸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及具体变更内容（总建筑面积、建筑层数、总建筑高度、房基占地面积、建筑外立面、其他），并填写相关信息，同时将新的房屋建筑方案和施工图纸上传系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25"/>
          <p:cNvSpPr/>
          <p:nvPr/>
        </p:nvSpPr>
        <p:spPr>
          <a:xfrm>
            <a:off x="7578720" y="145908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7637400" y="2087640"/>
            <a:ext cx="1055880" cy="5619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19"/>
          <p:cNvSpPr/>
          <p:nvPr/>
        </p:nvSpPr>
        <p:spPr>
          <a:xfrm>
            <a:off x="5562000" y="280836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19"/>
          <p:cNvSpPr/>
          <p:nvPr/>
        </p:nvSpPr>
        <p:spPr>
          <a:xfrm>
            <a:off x="7740720" y="2808360"/>
            <a:ext cx="1090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右箭头 28"/>
          <p:cNvSpPr/>
          <p:nvPr/>
        </p:nvSpPr>
        <p:spPr>
          <a:xfrm>
            <a:off x="4443480" y="2241720"/>
            <a:ext cx="554040" cy="176040"/>
          </a:xfrm>
          <a:prstGeom prst="rightArrow">
            <a:avLst>
              <a:gd name="adj1" fmla="val 50000"/>
              <a:gd name="adj2" fmla="val 5003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28"/>
          <p:cNvSpPr/>
          <p:nvPr/>
        </p:nvSpPr>
        <p:spPr>
          <a:xfrm>
            <a:off x="595440" y="789120"/>
            <a:ext cx="134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变更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1468440" y="789120"/>
            <a:ext cx="67849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建筑方案；②施工图纸；③农房建设批准书；④农房建设施工牌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文本框 13"/>
          <p:cNvSpPr/>
          <p:nvPr/>
        </p:nvSpPr>
        <p:spPr>
          <a:xfrm>
            <a:off x="5468760" y="1641600"/>
            <a:ext cx="10544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右箭头 42"/>
          <p:cNvSpPr/>
          <p:nvPr/>
        </p:nvSpPr>
        <p:spPr>
          <a:xfrm>
            <a:off x="3889440" y="4689360"/>
            <a:ext cx="731880" cy="179640"/>
          </a:xfrm>
          <a:prstGeom prst="rightArrow">
            <a:avLst>
              <a:gd name="adj1" fmla="val 50000"/>
              <a:gd name="adj2" fmla="val 55284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右箭头 43"/>
          <p:cNvSpPr/>
          <p:nvPr/>
        </p:nvSpPr>
        <p:spPr>
          <a:xfrm>
            <a:off x="6827760" y="4678200"/>
            <a:ext cx="557280" cy="19080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5292720" y="2016000"/>
            <a:ext cx="1330200" cy="587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镇街规划管理所、镇街住房城乡建设部门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右箭头 3"/>
          <p:cNvSpPr/>
          <p:nvPr/>
        </p:nvSpPr>
        <p:spPr>
          <a:xfrm>
            <a:off x="6856560" y="2235240"/>
            <a:ext cx="581040" cy="1839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文本框 13"/>
          <p:cNvSpPr/>
          <p:nvPr/>
        </p:nvSpPr>
        <p:spPr>
          <a:xfrm>
            <a:off x="5207040" y="5040360"/>
            <a:ext cx="1136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住建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894200" y="5327640"/>
            <a:ext cx="1733760" cy="3589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对施工图纸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19"/>
          <p:cNvSpPr/>
          <p:nvPr/>
        </p:nvSpPr>
        <p:spPr>
          <a:xfrm>
            <a:off x="5380920" y="585144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25"/>
          <p:cNvSpPr/>
          <p:nvPr/>
        </p:nvSpPr>
        <p:spPr>
          <a:xfrm>
            <a:off x="7702560" y="369900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7562880" y="4424400"/>
            <a:ext cx="1442880" cy="64116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</a:rPr>
              <a:t>重新核发《农房建设批准书》和《农房建设施工牌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19"/>
          <p:cNvSpPr/>
          <p:nvPr/>
        </p:nvSpPr>
        <p:spPr>
          <a:xfrm>
            <a:off x="7843680" y="519120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3"/>
          <p:cNvSpPr/>
          <p:nvPr/>
        </p:nvSpPr>
        <p:spPr>
          <a:xfrm>
            <a:off x="5175360" y="3703680"/>
            <a:ext cx="1054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</a:rPr>
              <a:t>镇街部门联审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5133960" y="1527120"/>
            <a:ext cx="1674720" cy="15811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0"/>
          <p:cNvSpPr/>
          <p:nvPr/>
        </p:nvSpPr>
        <p:spPr>
          <a:xfrm>
            <a:off x="7488360" y="1449360"/>
            <a:ext cx="1423800" cy="16448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0"/>
          <p:cNvSpPr/>
          <p:nvPr/>
        </p:nvSpPr>
        <p:spPr>
          <a:xfrm>
            <a:off x="7483320" y="3602160"/>
            <a:ext cx="1675080" cy="187308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10"/>
          <p:cNvSpPr/>
          <p:nvPr/>
        </p:nvSpPr>
        <p:spPr>
          <a:xfrm>
            <a:off x="4809960" y="5973840"/>
            <a:ext cx="3934080" cy="10620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4917960" y="4317840"/>
            <a:ext cx="3129120" cy="70344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3425760" y="1104840"/>
            <a:ext cx="3130560" cy="70488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73080" y="625320"/>
            <a:ext cx="2543040" cy="31878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43040" y="4075200"/>
            <a:ext cx="3405240" cy="303696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682040" y="1989000"/>
            <a:ext cx="143640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44360" y="2130480"/>
            <a:ext cx="2354400" cy="144468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申请人可在市镇两级政务服务中心或村（社区）党群服务中心窗口线下申请办理，也可以通过登陆“农民安居房审批管理系统”在线上申请办理。线上申请办理流程如下：申请人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选择“变更农房建设批准书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，重新提交办理建设批准手续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90"/>
          <p:cNvSpPr/>
          <p:nvPr/>
        </p:nvSpPr>
        <p:spPr>
          <a:xfrm>
            <a:off x="2273400" y="71280"/>
            <a:ext cx="54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办理变更手续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28"/>
          <p:cNvSpPr/>
          <p:nvPr/>
        </p:nvSpPr>
        <p:spPr>
          <a:xfrm>
            <a:off x="289080" y="720720"/>
            <a:ext cx="2528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情况三：变更农房建设批准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文本框 28"/>
          <p:cNvSpPr/>
          <p:nvPr/>
        </p:nvSpPr>
        <p:spPr>
          <a:xfrm>
            <a:off x="1355760" y="4103640"/>
            <a:ext cx="2011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情况四：变更农房施工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25"/>
          <p:cNvSpPr/>
          <p:nvPr/>
        </p:nvSpPr>
        <p:spPr>
          <a:xfrm>
            <a:off x="7810560" y="2130480"/>
            <a:ext cx="116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人民政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（街道办事处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最终审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7818480" y="2809800"/>
            <a:ext cx="1111320" cy="94932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重新核发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批准书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，系统同步更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施工牌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文本框 19"/>
          <p:cNvSpPr/>
          <p:nvPr/>
        </p:nvSpPr>
        <p:spPr>
          <a:xfrm>
            <a:off x="7885080" y="3813120"/>
            <a:ext cx="109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右箭头 28"/>
          <p:cNvSpPr/>
          <p:nvPr/>
        </p:nvSpPr>
        <p:spPr>
          <a:xfrm>
            <a:off x="2665440" y="2952720"/>
            <a:ext cx="561960" cy="16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3529080" y="1222200"/>
            <a:ext cx="285912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一、二）与建筑方案或施工图纸变更同步办理，无需另行提交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右箭头 43"/>
          <p:cNvSpPr/>
          <p:nvPr/>
        </p:nvSpPr>
        <p:spPr>
          <a:xfrm>
            <a:off x="5173560" y="2936880"/>
            <a:ext cx="398520" cy="1602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1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右箭头 3"/>
          <p:cNvSpPr/>
          <p:nvPr/>
        </p:nvSpPr>
        <p:spPr>
          <a:xfrm>
            <a:off x="7273800" y="2936880"/>
            <a:ext cx="333360" cy="1602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28"/>
          <p:cNvSpPr/>
          <p:nvPr/>
        </p:nvSpPr>
        <p:spPr>
          <a:xfrm>
            <a:off x="392760" y="260280"/>
            <a:ext cx="660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附件</a:t>
            </a: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1355760" y="4435560"/>
            <a:ext cx="221148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施工牌》中建筑基本信息（总建筑面积、建筑层数、总建筑高度、房基占地面积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3243240" y="1989000"/>
            <a:ext cx="188280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3438360" y="251460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公示报建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467160" y="3357720"/>
            <a:ext cx="1503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审查申请信息及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右箭头 7"/>
          <p:cNvSpPr/>
          <p:nvPr/>
        </p:nvSpPr>
        <p:spPr>
          <a:xfrm rot="5400000">
            <a:off x="4072320" y="2972520"/>
            <a:ext cx="398520" cy="18756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3833280" y="376704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8"/>
          <p:cNvSpPr/>
          <p:nvPr/>
        </p:nvSpPr>
        <p:spPr>
          <a:xfrm>
            <a:off x="3800880" y="216216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村（社区）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5691240" y="2606760"/>
            <a:ext cx="1395360" cy="72864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住建、农林水务、自然资源、规划所、城管等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审查资料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文本框 19"/>
          <p:cNvSpPr/>
          <p:nvPr/>
        </p:nvSpPr>
        <p:spPr>
          <a:xfrm>
            <a:off x="5967000" y="352440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文本框 13"/>
          <p:cNvSpPr/>
          <p:nvPr/>
        </p:nvSpPr>
        <p:spPr>
          <a:xfrm>
            <a:off x="6004800" y="22543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部门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0"/>
          <p:cNvSpPr/>
          <p:nvPr/>
        </p:nvSpPr>
        <p:spPr>
          <a:xfrm>
            <a:off x="5619600" y="1989000"/>
            <a:ext cx="1568520" cy="208620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144360" y="1152360"/>
            <a:ext cx="2354400" cy="587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批准书》中建筑基本信息（总建筑面积、建筑层数、总建筑高度、房基占地面积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右箭头 18"/>
          <p:cNvSpPr/>
          <p:nvPr/>
        </p:nvSpPr>
        <p:spPr>
          <a:xfrm>
            <a:off x="2681280" y="1365120"/>
            <a:ext cx="561960" cy="162000"/>
          </a:xfrm>
          <a:prstGeom prst="rightArrow">
            <a:avLst>
              <a:gd name="adj1" fmla="val 50000"/>
              <a:gd name="adj2" fmla="val 49962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1355760" y="5184720"/>
            <a:ext cx="221148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变更《农房建设施工牌》中其他信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936720" y="5786280"/>
            <a:ext cx="3027240" cy="12495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申请人可在市镇两级政务服务中心或村（社区）党群服务中心窗口申请办理，也可以通过登陆“农民安居房审批管理系统”在线上申请办理。线上申请办理流程如下：申请人登陆农民安居房审批管理系统，</a:t>
            </a: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选择“变更农房建设施工牌”选项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及具体变更内容，并填写相关信息，同时将有关合同签章页扫描件等上传系统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右箭头 26"/>
          <p:cNvSpPr/>
          <p:nvPr/>
        </p:nvSpPr>
        <p:spPr>
          <a:xfrm>
            <a:off x="4224240" y="6372360"/>
            <a:ext cx="561960" cy="17604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4917960" y="6249960"/>
            <a:ext cx="1376640" cy="45252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对施工牌内容重新审查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文本框 13"/>
          <p:cNvSpPr/>
          <p:nvPr/>
        </p:nvSpPr>
        <p:spPr>
          <a:xfrm>
            <a:off x="5037120" y="5985000"/>
            <a:ext cx="1136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镇街住建部门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文本框 31"/>
          <p:cNvSpPr/>
          <p:nvPr/>
        </p:nvSpPr>
        <p:spPr>
          <a:xfrm>
            <a:off x="6247800" y="6750000"/>
            <a:ext cx="831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11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1100" spc="-1" strike="noStrike">
                <a:solidFill>
                  <a:srgbClr val="ff0000"/>
                </a:solidFill>
                <a:latin typeface="宋体"/>
                <a:ea typeface="宋体"/>
              </a:rPr>
              <a:t>个工作日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6958080" y="6238800"/>
            <a:ext cx="1428840" cy="463680"/>
          </a:xfrm>
          <a:prstGeom prst="rect">
            <a:avLst/>
          </a:pr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系统同步更新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农房建设施工牌</a:t>
            </a:r>
            <a:r>
              <a:rPr b="0" lang="en-US" sz="11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右箭头 33"/>
          <p:cNvSpPr/>
          <p:nvPr/>
        </p:nvSpPr>
        <p:spPr>
          <a:xfrm>
            <a:off x="6427800" y="6372360"/>
            <a:ext cx="398520" cy="17604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019840" y="4435560"/>
            <a:ext cx="28605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一、二）与与建筑方案或施工图纸变更同步办理，无需另行提交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右箭头 36"/>
          <p:cNvSpPr/>
          <p:nvPr/>
        </p:nvSpPr>
        <p:spPr>
          <a:xfrm>
            <a:off x="4248000" y="4581360"/>
            <a:ext cx="561960" cy="1764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右箭头 37"/>
          <p:cNvSpPr/>
          <p:nvPr/>
        </p:nvSpPr>
        <p:spPr>
          <a:xfrm>
            <a:off x="4249800" y="5398920"/>
            <a:ext cx="561960" cy="17640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0"/>
          <p:cNvSpPr/>
          <p:nvPr/>
        </p:nvSpPr>
        <p:spPr>
          <a:xfrm>
            <a:off x="5014800" y="5146560"/>
            <a:ext cx="2233800" cy="628920"/>
          </a:xfrm>
          <a:prstGeom prst="rect">
            <a:avLst/>
          </a:prstGeom>
          <a:noFill/>
          <a:ln w="9360">
            <a:solidFill>
              <a:srgbClr val="00b05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5297400" y="5329080"/>
            <a:ext cx="1557360" cy="261360"/>
          </a:xfrm>
          <a:prstGeom prst="rect">
            <a:avLst/>
          </a:prstGeom>
          <a:noFill/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宋体"/>
                <a:ea typeface="宋体"/>
              </a:rPr>
              <a:t>按照（情况三）办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936720" y="289080"/>
          <a:ext cx="7372080" cy="6445080"/>
        </p:xfrm>
        <a:graphic>
          <a:graphicData uri="http://schemas.openxmlformats.org/drawingml/2006/table">
            <a:tbl>
              <a:tblPr/>
              <a:tblGrid>
                <a:gridCol w="545760"/>
                <a:gridCol w="1987560"/>
                <a:gridCol w="3535200"/>
                <a:gridCol w="1303560"/>
              </a:tblGrid>
              <a:tr h="4190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76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拟建房屋建筑方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拟建房屋与宅基地坐落总平面图、每层平面图、前后左右立面图等；提供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版图形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4776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1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图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施工图纸需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7152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批准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份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88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土地权属证明材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包括：集体土地使用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不动产权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/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村宅基地批准书；遗失土地使用权证、不动产权证的，以不动产登记部门出具的查档证明代替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62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报建地块用地红线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可将红线图各点地理坐标直接录入报建系统；或上传由具备资质的测绘机构出具的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00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坐标系”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SHP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格式文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14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身份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本地村民可不提供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户口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建设申请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申请人下载签字后上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44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936720" y="216000"/>
          <a:ext cx="7372080" cy="2876400"/>
        </p:xfrm>
        <a:graphic>
          <a:graphicData uri="http://schemas.openxmlformats.org/drawingml/2006/table">
            <a:tbl>
              <a:tblPr/>
              <a:tblGrid>
                <a:gridCol w="545760"/>
                <a:gridCol w="1987560"/>
                <a:gridCol w="3535200"/>
                <a:gridCol w="1303560"/>
              </a:tblGrid>
              <a:tr h="3967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办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手续所需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资料清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变更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农房施工牌（变更施工单位、设计单位、勘察单位及其负责人信息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序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材料名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注意事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备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95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施工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3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设计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9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勘察合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签章页上传到农民安居房审批管理系统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PDF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电子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仿宋_GB2312"/>
                          <a:ea typeface="仿宋_GB2312"/>
                        </a:rPr>
                        <a:t>扫描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  <p:sp>
        <p:nvSpPr>
          <p:cNvPr id="246" name="文本框 28"/>
          <p:cNvSpPr/>
          <p:nvPr/>
        </p:nvSpPr>
        <p:spPr>
          <a:xfrm>
            <a:off x="7986600" y="6816600"/>
            <a:ext cx="1238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宋体"/>
              </a:rPr>
              <a:t>-2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16:59:00Z</dcterms:created>
  <dc:creator>user</dc:creator>
  <dc:description/>
  <dc:language>en-US</dc:language>
  <cp:lastModifiedBy>Ming.</cp:lastModifiedBy>
  <dcterms:modified xsi:type="dcterms:W3CDTF">2023-09-04T08:19:11Z</dcterms:modified>
  <cp:revision>5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7990859B1BE4A3A81339353E4AA4508_12</vt:lpwstr>
  </property>
  <property fmtid="{D5CDD505-2E9C-101B-9397-08002B2CF9AE}" pid="3" name="KSOProductBuildVer">
    <vt:lpwstr>2052-12.1.0.15120</vt:lpwstr>
  </property>
</Properties>
</file>