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357-8229-46C7-90B8-C39C022F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DB0-3420-4095-9CEE-C8040DBB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C01-1BC8-408B-96D9-46EAEF4D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7848-40F5-4F32-AB48-4BCA7E0F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7F17-446F-4A01-B507-BFFCDB27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05DD-14AE-48C4-AE66-C9CE6188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A0F3-1132-445B-A205-33FBF620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39D3-6CC8-4100-9357-E8808BA2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1061-E31A-4A8D-8EF8-01745828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0019-D4DD-4160-BEB2-C1A7134D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7D3A-8175-4D28-B002-37FB7652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D35-664A-4F4B-B5BD-193302A5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5F0B-9EB6-45E5-B1A9-D3765300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41BB-458F-4E3C-BA23-740EC50A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77BF-322F-4E12-A206-57F21037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1F5E-80AE-4058-8B4A-68262B9F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72FD-6C65-421D-85BB-24C45898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7592-925F-4531-ABF3-84691E29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ED4-D3E3-4E1D-8EEB-488F1BF0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196-E82F-4E62-AB03-C1834925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7B8-9466-4342-B888-13B336DF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0D8-3AA0-4A7C-B37A-AD025A37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5673-3C5E-48DB-B1E4-D82A7B59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55A8-F6D2-4B3A-A81B-578D8C24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7973-5BA7-4B8A-BC03-7830D3B141C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085F-A64D-4614-B575-267A35D86E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2AFE-3F4F-4841-8984-D0C3345EA775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7181-2622-4256-A288-9F493FEA44A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406440" y="1123920"/>
            <a:ext cx="2504880" cy="1600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407880" y="3251160"/>
            <a:ext cx="2505240" cy="1600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3822840" y="1123920"/>
            <a:ext cx="3927240" cy="17679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90"/>
          <p:cNvSpPr/>
          <p:nvPr/>
        </p:nvSpPr>
        <p:spPr>
          <a:xfrm>
            <a:off x="2179800" y="314280"/>
            <a:ext cx="54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延期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文本框 28"/>
          <p:cNvSpPr/>
          <p:nvPr/>
        </p:nvSpPr>
        <p:spPr>
          <a:xfrm>
            <a:off x="979560" y="1209600"/>
            <a:ext cx="1587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28"/>
          <p:cNvSpPr/>
          <p:nvPr/>
        </p:nvSpPr>
        <p:spPr>
          <a:xfrm>
            <a:off x="979560" y="3360600"/>
            <a:ext cx="126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647640" y="3765600"/>
            <a:ext cx="20257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登录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农民安居房审批管理系统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，点击『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建设延期申请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』选项并上传相关资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右箭头 9"/>
          <p:cNvSpPr/>
          <p:nvPr/>
        </p:nvSpPr>
        <p:spPr>
          <a:xfrm>
            <a:off x="3236760" y="6048360"/>
            <a:ext cx="530280" cy="16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3798720" y="4933800"/>
            <a:ext cx="4035600" cy="19353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916440" y="1622520"/>
            <a:ext cx="152856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《农房建设批准书》核发之日起，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年内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未开工建设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且未办理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《农房建设施工牌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28"/>
          <p:cNvSpPr/>
          <p:nvPr/>
        </p:nvSpPr>
        <p:spPr>
          <a:xfrm>
            <a:off x="3683160" y="1209600"/>
            <a:ext cx="126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28"/>
          <p:cNvSpPr/>
          <p:nvPr/>
        </p:nvSpPr>
        <p:spPr>
          <a:xfrm>
            <a:off x="3683160" y="5043600"/>
            <a:ext cx="126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3917880" y="5413320"/>
            <a:ext cx="1638360" cy="5961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《农房建设批准书》核发之日起，申请人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年内已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办理工程质量安全监管手续并开工建设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年内未完成建设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以《农房建设批准书》核发之日起计算）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右箭头 6"/>
          <p:cNvSpPr/>
          <p:nvPr/>
        </p:nvSpPr>
        <p:spPr>
          <a:xfrm>
            <a:off x="3236760" y="1989000"/>
            <a:ext cx="530280" cy="16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6208560" y="1558800"/>
            <a:ext cx="140184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村（社区）、镇街联审部门、镇政府按照建设批准手续程序重新审查或审核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右箭头 8"/>
          <p:cNvSpPr/>
          <p:nvPr/>
        </p:nvSpPr>
        <p:spPr>
          <a:xfrm>
            <a:off x="5548320" y="1901880"/>
            <a:ext cx="465120" cy="1620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245280" y="5616720"/>
            <a:ext cx="14317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村（社区）、镇街联审部门、镇政府按照工程质量安全监管手续程序重新审查或审核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右箭头 12"/>
          <p:cNvSpPr/>
          <p:nvPr/>
        </p:nvSpPr>
        <p:spPr>
          <a:xfrm>
            <a:off x="5657760" y="5981760"/>
            <a:ext cx="486000" cy="14616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39640" y="1527120"/>
            <a:ext cx="2239920" cy="9309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施工合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保险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施工企业派驻项目施工管理人员的任命文件和身份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农房工程质量安全监管登记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右箭头 16"/>
          <p:cNvSpPr/>
          <p:nvPr/>
        </p:nvSpPr>
        <p:spPr>
          <a:xfrm rot="5400000">
            <a:off x="1511640" y="2934360"/>
            <a:ext cx="296640" cy="12060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3236760" y="2030400"/>
            <a:ext cx="104760" cy="40910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4"/>
          <p:cNvSpPr/>
          <p:nvPr/>
        </p:nvSpPr>
        <p:spPr>
          <a:xfrm rot="5400000">
            <a:off x="3074040" y="3685320"/>
            <a:ext cx="84240" cy="3938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8"/>
          <p:cNvSpPr/>
          <p:nvPr/>
        </p:nvSpPr>
        <p:spPr>
          <a:xfrm>
            <a:off x="392760" y="26028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3822840" y="3044880"/>
            <a:ext cx="3954240" cy="174924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60720" y="3621240"/>
            <a:ext cx="1586160" cy="79524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《农房建设批准书》核发之日起，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年内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未开工建设</a:t>
            </a:r>
            <a:r>
              <a:rPr b="1" lang="zh-CN" sz="1100" spc="-1" strike="noStrike">
                <a:solidFill>
                  <a:srgbClr val="ff0000"/>
                </a:solidFill>
                <a:latin typeface="宋体"/>
              </a:rPr>
              <a:t>且已办理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《农房建设施工牌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28"/>
          <p:cNvSpPr/>
          <p:nvPr/>
        </p:nvSpPr>
        <p:spPr>
          <a:xfrm>
            <a:off x="3755880" y="3191040"/>
            <a:ext cx="126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6234120" y="3479760"/>
            <a:ext cx="140184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村（社区）、镇街联审部门、镇政府按照建设批准手续和质量安全监管手续程序重新审查或审核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右箭头 10"/>
          <p:cNvSpPr/>
          <p:nvPr/>
        </p:nvSpPr>
        <p:spPr>
          <a:xfrm>
            <a:off x="5657760" y="3960720"/>
            <a:ext cx="465120" cy="1620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955800" y="887400"/>
          <a:ext cx="7372080" cy="4167360"/>
        </p:xfrm>
        <a:graphic>
          <a:graphicData uri="http://schemas.openxmlformats.org/drawingml/2006/table">
            <a:tbl>
              <a:tblPr/>
              <a:tblGrid>
                <a:gridCol w="1638000"/>
                <a:gridCol w="1638360"/>
                <a:gridCol w="2801880"/>
                <a:gridCol w="1293840"/>
              </a:tblGrid>
              <a:tr h="396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延期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手续所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建设批准手续延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申请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系统自动生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6828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程质量安全监管手续延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份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单位具备相应资质并已在东莞市建设网建立信用档案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保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伤保险或建筑工程安全生产责任险，可叠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派驻项目施工管理人员的任命文件和身份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加盖公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2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工程质量安全监管登记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可自行网上下载或到村委会领取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企业加盖公章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12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08:59:00Z</dcterms:created>
  <dc:creator>user</dc:creator>
  <dc:description/>
  <dc:language>en-US</dc:language>
  <cp:lastModifiedBy>飞龙</cp:lastModifiedBy>
  <dcterms:modified xsi:type="dcterms:W3CDTF">2023-08-09T15:33:00Z</dcterms:modified>
  <cp:revision>5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26B97B913A24728BDE7B92B2BE837AD_12</vt:lpwstr>
  </property>
  <property fmtid="{D5CDD505-2E9C-101B-9397-08002B2CF9AE}" pid="3" name="KSOProductBuildVer">
    <vt:lpwstr>2052-12.1.0.15120</vt:lpwstr>
  </property>
</Properties>
</file>