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359900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F0F-7308-41A0-B7E4-95A0BD36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44F6-AA2C-4EB9-A4E9-407EBB84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7EE5-1C3E-469B-8732-19C95033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B4F-B522-459C-88F9-C0D670E9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225A-4C4F-4BE6-8C44-F80DD99E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5229-4988-4715-913F-B541400F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B73E-80FF-464C-8BED-4F4B7E15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C9B4-3086-4673-B143-51E34B64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8380-5906-4C2B-9704-6F7FA6E1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C14A-4A55-4665-8991-3F4C6690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EB03-C769-45D6-8A5F-486DE3D1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336-22F5-4025-B6F5-9BDFF89C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5BB1-5B4D-4D64-ADAC-04DFD036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D2CC-EB05-4CDE-84BE-7183138C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E4BF-853D-405B-8ECD-74CCB3C0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4F8B-0A65-417D-9CDD-C45F21EB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604E-B000-4961-951C-00BA0AD1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ADB-EE7E-46F7-9335-1E5861A9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1D03-948A-43F2-BDBE-552DE411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70D7-AF92-4A5B-A910-88245D17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A9E-8597-4304-B541-1EF9D7A4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418-9E8B-4717-89CA-0E546888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F34-F695-4A98-980B-D6BB2344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690-861B-47B2-8BFA-98053EDA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A4E9-9742-4D50-920C-61F91C2C174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69EC-9D0D-4A82-BF3E-1A9DF7A470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7541-3833-4885-98CF-F785A115ABB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A3AC-A074-43EB-9BD2-F0BEA55B8A4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0"/>
          <p:cNvSpPr/>
          <p:nvPr/>
        </p:nvSpPr>
        <p:spPr>
          <a:xfrm>
            <a:off x="4390920" y="1617840"/>
            <a:ext cx="1927440" cy="22701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90"/>
          <p:cNvSpPr/>
          <p:nvPr/>
        </p:nvSpPr>
        <p:spPr>
          <a:xfrm>
            <a:off x="2178000" y="52056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理验收意见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212760" y="1617840"/>
            <a:ext cx="1460520" cy="22701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28"/>
          <p:cNvSpPr/>
          <p:nvPr/>
        </p:nvSpPr>
        <p:spPr>
          <a:xfrm>
            <a:off x="127080" y="1873080"/>
            <a:ext cx="154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一）前期资料准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285840" y="2260440"/>
            <a:ext cx="13143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组织设计、施工单位进行工程竣工验收，并形成《工程竣工验收报告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2178000" y="1625760"/>
            <a:ext cx="1609920" cy="22701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8"/>
          <p:cNvSpPr/>
          <p:nvPr/>
        </p:nvSpPr>
        <p:spPr>
          <a:xfrm>
            <a:off x="2373480" y="1865160"/>
            <a:ext cx="118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二）提交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13"/>
          <p:cNvSpPr/>
          <p:nvPr/>
        </p:nvSpPr>
        <p:spPr>
          <a:xfrm>
            <a:off x="4911480" y="1873080"/>
            <a:ext cx="93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三）镇街部门联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右箭头 31"/>
          <p:cNvSpPr/>
          <p:nvPr/>
        </p:nvSpPr>
        <p:spPr>
          <a:xfrm>
            <a:off x="3863880" y="2589120"/>
            <a:ext cx="473040" cy="17964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6975360" y="1617840"/>
            <a:ext cx="1463760" cy="22701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19"/>
          <p:cNvSpPr/>
          <p:nvPr/>
        </p:nvSpPr>
        <p:spPr>
          <a:xfrm>
            <a:off x="4963680" y="353376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25"/>
          <p:cNvSpPr/>
          <p:nvPr/>
        </p:nvSpPr>
        <p:spPr>
          <a:xfrm>
            <a:off x="7281720" y="1697040"/>
            <a:ext cx="85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四）镇人民政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街道办事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最终审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7162920" y="2995560"/>
            <a:ext cx="1143000" cy="26136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核发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农房验收意见表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右箭头 37"/>
          <p:cNvSpPr/>
          <p:nvPr/>
        </p:nvSpPr>
        <p:spPr>
          <a:xfrm rot="16200000">
            <a:off x="2584440" y="4326120"/>
            <a:ext cx="758880" cy="21240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19"/>
          <p:cNvSpPr/>
          <p:nvPr/>
        </p:nvSpPr>
        <p:spPr>
          <a:xfrm>
            <a:off x="7188120" y="3571920"/>
            <a:ext cx="109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"/>
          <p:cNvSpPr/>
          <p:nvPr/>
        </p:nvSpPr>
        <p:spPr>
          <a:xfrm>
            <a:off x="2297160" y="2387520"/>
            <a:ext cx="1369800" cy="4287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登陆“农民安居房审批管理系统”办理验收意见手续申请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4557600" y="2295360"/>
            <a:ext cx="1641600" cy="4287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镇街住房城乡建设部门会同自然资源、规划管理、城市管理综合执法等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进行实地核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8923320" y="2631960"/>
            <a:ext cx="111240" cy="217980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54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4"/>
          <p:cNvSpPr/>
          <p:nvPr/>
        </p:nvSpPr>
        <p:spPr>
          <a:xfrm rot="16200000">
            <a:off x="5904360" y="1710000"/>
            <a:ext cx="103320" cy="609912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108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右箭头 1"/>
          <p:cNvSpPr/>
          <p:nvPr/>
        </p:nvSpPr>
        <p:spPr>
          <a:xfrm>
            <a:off x="6394320" y="2590920"/>
            <a:ext cx="559080" cy="179280"/>
          </a:xfrm>
          <a:prstGeom prst="rightArrow">
            <a:avLst>
              <a:gd name="adj1" fmla="val 50000"/>
              <a:gd name="adj2" fmla="val 50054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39"/>
          <p:cNvSpPr/>
          <p:nvPr/>
        </p:nvSpPr>
        <p:spPr>
          <a:xfrm>
            <a:off x="4680000" y="4357800"/>
            <a:ext cx="3021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不符合条件的，一次性告知原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6318360" y="2295360"/>
            <a:ext cx="817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推送意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右箭头 2"/>
          <p:cNvSpPr/>
          <p:nvPr/>
        </p:nvSpPr>
        <p:spPr>
          <a:xfrm>
            <a:off x="1735200" y="2590920"/>
            <a:ext cx="411120" cy="1792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1"/>
          <p:cNvSpPr/>
          <p:nvPr/>
        </p:nvSpPr>
        <p:spPr>
          <a:xfrm>
            <a:off x="3740040" y="2260440"/>
            <a:ext cx="817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推送申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061040" y="2471760"/>
            <a:ext cx="13431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审核联审部门意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6"/>
          <p:cNvSpPr/>
          <p:nvPr/>
        </p:nvSpPr>
        <p:spPr>
          <a:xfrm rot="16200000">
            <a:off x="8703360" y="2426040"/>
            <a:ext cx="96840" cy="507960"/>
          </a:xfrm>
          <a:prstGeom prst="rect">
            <a:avLst/>
          </a:prstGeom>
          <a:gradFill rotWithShape="0">
            <a:gsLst>
              <a:gs pos="0">
                <a:srgbClr val="fe4444"/>
              </a:gs>
              <a:gs pos="100000">
                <a:srgbClr val="832b2b"/>
              </a:gs>
            </a:gsLst>
            <a:lin ang="10800000"/>
          </a:gra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右箭头 7"/>
          <p:cNvSpPr/>
          <p:nvPr/>
        </p:nvSpPr>
        <p:spPr>
          <a:xfrm rot="5400000">
            <a:off x="7655040" y="2816280"/>
            <a:ext cx="185760" cy="936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28"/>
          <p:cNvSpPr/>
          <p:nvPr/>
        </p:nvSpPr>
        <p:spPr>
          <a:xfrm>
            <a:off x="392760" y="260280"/>
            <a:ext cx="66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884160" y="787320"/>
          <a:ext cx="7372440" cy="140184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  <a:gridCol w="2801880"/>
                <a:gridCol w="1293840"/>
              </a:tblGrid>
              <a:tr h="46656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验收意见手续所需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66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工程竣工验收报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设计单位、施工企业加盖公章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112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9T00:59:00Z</dcterms:created>
  <dc:creator>user</dc:creator>
  <dc:description/>
  <dc:language>en-US</dc:language>
  <cp:lastModifiedBy>Ming.</cp:lastModifiedBy>
  <dcterms:modified xsi:type="dcterms:W3CDTF">2023-09-04T07:50:37Z</dcterms:modified>
  <cp:revision>5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91C03613287411181549BF4E78219E4_12</vt:lpwstr>
  </property>
  <property fmtid="{D5CDD505-2E9C-101B-9397-08002B2CF9AE}" pid="3" name="KSOProductBuildVer">
    <vt:lpwstr>2052-12.1.0.15120</vt:lpwstr>
  </property>
</Properties>
</file>