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941-D9F5-468D-8269-5AF2D3CB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407-0C08-4B18-958B-9191176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351-3707-42BA-A4AA-78A9AC12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6EB-DEFF-45B6-95AF-4F9813EF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E998-A357-47A9-B02B-9ADFAE9E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3B51-BFFC-4FA5-9BDF-36B7E380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956E-1B5E-4DA8-B07B-E8378C32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BC02-4529-4770-8B8D-240BC060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E782-B99D-4291-9F1B-9B0DAEDE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86A2-FD2C-45BE-9B4A-6A44169A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1AA7-238F-47E4-98C5-DB6C1D23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FB1-122E-44AA-826E-5C7ECBF7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D677-FA63-4702-B7A7-4D20FAC2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F0F0-E189-47DF-BA3B-028EAA6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E488-8E94-4716-AF5E-57C2A809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D80F-E168-4353-B62D-FC20EC87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DC20-AD33-4821-B665-9BCD2A52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AD0-69C4-4260-B38E-A4B0B1D9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C36-01B6-4339-A8DD-6362F06B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EAA-6CE3-40C7-A212-07FF7F9A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5A4-5447-456B-9CC7-F08E7D05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D17-2140-4CAF-B5F2-D29A73DA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972-FA95-47E4-B1D5-1BB5BC53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8A7-B68E-44F1-A2B0-E5FB9D41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CF26-B1DA-4C79-A724-97F2044231E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DC61-8DBB-44F6-BFC4-E0917831A5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9052-E610-43C0-B081-8A1960A7B88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21BD-707F-4420-8F6F-2291EC4A26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351000" y="2297160"/>
            <a:ext cx="1965240" cy="4781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7475400" y="2835360"/>
            <a:ext cx="1533600" cy="2939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351000" y="900000"/>
            <a:ext cx="1989000" cy="10983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272200" y="2835360"/>
            <a:ext cx="1628640" cy="2939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992320" y="2849400"/>
            <a:ext cx="1717920" cy="2939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0"/>
          <p:cNvSpPr/>
          <p:nvPr/>
        </p:nvSpPr>
        <p:spPr>
          <a:xfrm>
            <a:off x="2179800" y="601560"/>
            <a:ext cx="54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建设批准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474840" y="5705640"/>
            <a:ext cx="177300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下载确认，并签字扫描后，连同前期准备资料，一并上传至系统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右箭头 31"/>
          <p:cNvSpPr/>
          <p:nvPr/>
        </p:nvSpPr>
        <p:spPr>
          <a:xfrm>
            <a:off x="2433600" y="4471920"/>
            <a:ext cx="477720" cy="16200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3070080" y="3498840"/>
            <a:ext cx="1503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公示报建信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070080" y="4762440"/>
            <a:ext cx="1503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查申请信息及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右箭头 5"/>
          <p:cNvSpPr/>
          <p:nvPr/>
        </p:nvSpPr>
        <p:spPr>
          <a:xfrm rot="5400000">
            <a:off x="3589920" y="4175640"/>
            <a:ext cx="490680" cy="1620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8"/>
          <p:cNvSpPr/>
          <p:nvPr/>
        </p:nvSpPr>
        <p:spPr>
          <a:xfrm>
            <a:off x="3418920" y="539892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右箭头 9"/>
          <p:cNvSpPr/>
          <p:nvPr/>
        </p:nvSpPr>
        <p:spPr>
          <a:xfrm>
            <a:off x="4761000" y="4484520"/>
            <a:ext cx="474480" cy="1368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13"/>
          <p:cNvSpPr/>
          <p:nvPr/>
        </p:nvSpPr>
        <p:spPr>
          <a:xfrm>
            <a:off x="5619600" y="3178080"/>
            <a:ext cx="93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四）镇街部门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5415120" y="3611520"/>
            <a:ext cx="1395360" cy="1098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住建、农林水务、自然资源、规划（不动产登记）、城管等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查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19"/>
          <p:cNvSpPr/>
          <p:nvPr/>
        </p:nvSpPr>
        <p:spPr>
          <a:xfrm>
            <a:off x="5630400" y="550548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7670880" y="4960800"/>
            <a:ext cx="1214280" cy="2613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批准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25"/>
          <p:cNvSpPr/>
          <p:nvPr/>
        </p:nvSpPr>
        <p:spPr>
          <a:xfrm>
            <a:off x="7843680" y="2967120"/>
            <a:ext cx="85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五）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7"/>
          <p:cNvSpPr/>
          <p:nvPr/>
        </p:nvSpPr>
        <p:spPr>
          <a:xfrm>
            <a:off x="7854480" y="549432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右箭头 36"/>
          <p:cNvSpPr/>
          <p:nvPr/>
        </p:nvSpPr>
        <p:spPr>
          <a:xfrm rot="10800000">
            <a:off x="2554200" y="6699240"/>
            <a:ext cx="6670800" cy="117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39"/>
          <p:cNvSpPr/>
          <p:nvPr/>
        </p:nvSpPr>
        <p:spPr>
          <a:xfrm>
            <a:off x="4782960" y="6372360"/>
            <a:ext cx="315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不符合条件，一次性告知原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8"/>
          <p:cNvSpPr/>
          <p:nvPr/>
        </p:nvSpPr>
        <p:spPr>
          <a:xfrm>
            <a:off x="3342600" y="313524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三）村（社区）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8"/>
          <p:cNvSpPr/>
          <p:nvPr/>
        </p:nvSpPr>
        <p:spPr>
          <a:xfrm>
            <a:off x="706320" y="2297160"/>
            <a:ext cx="13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8"/>
          <p:cNvSpPr/>
          <p:nvPr/>
        </p:nvSpPr>
        <p:spPr>
          <a:xfrm>
            <a:off x="520560" y="1017720"/>
            <a:ext cx="149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517680" y="1278000"/>
            <a:ext cx="1603080" cy="5961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土地权属证明材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报建地块用地红线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拟建房屋建筑方案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441360" y="2567160"/>
            <a:ext cx="1814400" cy="9309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登陆『广东政务服务网』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『东莞』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『工程建设项目审批』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『农民安居房审批管理系统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网址：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http://www.gdzwfw.gov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cn/portal/index?region=441900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428760" y="4960800"/>
            <a:ext cx="181764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系统自动生成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申请表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433440" y="4203720"/>
            <a:ext cx="181440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点击『农民安居房审批』，填写基本信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右箭头 2"/>
          <p:cNvSpPr/>
          <p:nvPr/>
        </p:nvSpPr>
        <p:spPr>
          <a:xfrm rot="5400000">
            <a:off x="1263600" y="405756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右箭头 3"/>
          <p:cNvSpPr/>
          <p:nvPr/>
        </p:nvSpPr>
        <p:spPr>
          <a:xfrm rot="5400000">
            <a:off x="1263600" y="475452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658800" y="6591240"/>
            <a:ext cx="137808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点击『发起申报』，提交申请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右箭头 7"/>
          <p:cNvSpPr/>
          <p:nvPr/>
        </p:nvSpPr>
        <p:spPr>
          <a:xfrm rot="5400000">
            <a:off x="1263600" y="549756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右箭头 8"/>
          <p:cNvSpPr/>
          <p:nvPr/>
        </p:nvSpPr>
        <p:spPr>
          <a:xfrm rot="5400000">
            <a:off x="1276200" y="6429240"/>
            <a:ext cx="190440" cy="763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6962040" y="41752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9147240" y="3659040"/>
            <a:ext cx="77760" cy="31165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4740120" y="41511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符合条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8"/>
          <p:cNvSpPr/>
          <p:nvPr/>
        </p:nvSpPr>
        <p:spPr>
          <a:xfrm>
            <a:off x="3813120" y="5880240"/>
            <a:ext cx="76320" cy="81900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570800" y="3565440"/>
            <a:ext cx="13431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核联审部门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右箭头 21"/>
          <p:cNvSpPr/>
          <p:nvPr/>
        </p:nvSpPr>
        <p:spPr>
          <a:xfrm rot="5400000">
            <a:off x="7867080" y="4340160"/>
            <a:ext cx="784080" cy="174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414520" y="41893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27"/>
          <p:cNvSpPr/>
          <p:nvPr/>
        </p:nvSpPr>
        <p:spPr>
          <a:xfrm>
            <a:off x="8415360" y="4060800"/>
            <a:ext cx="347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符合条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28"/>
          <p:cNvSpPr/>
          <p:nvPr/>
        </p:nvSpPr>
        <p:spPr>
          <a:xfrm>
            <a:off x="398160" y="26028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右箭头 1"/>
          <p:cNvSpPr/>
          <p:nvPr/>
        </p:nvSpPr>
        <p:spPr>
          <a:xfrm rot="5400000">
            <a:off x="1247760" y="210348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右箭头 4"/>
          <p:cNvSpPr/>
          <p:nvPr/>
        </p:nvSpPr>
        <p:spPr>
          <a:xfrm>
            <a:off x="6964200" y="4486320"/>
            <a:ext cx="476280" cy="1350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6"/>
          <p:cNvSpPr/>
          <p:nvPr/>
        </p:nvSpPr>
        <p:spPr>
          <a:xfrm rot="16200000">
            <a:off x="9084240" y="3596400"/>
            <a:ext cx="76320" cy="19836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955800" y="887400"/>
          <a:ext cx="7372080" cy="512460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2801880"/>
                <a:gridCol w="1293840"/>
              </a:tblGrid>
              <a:tr h="4953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建设批准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土地权属证明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包括：集体土地使用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不动产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村宅基地批准书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遗失土地使用权证、不动产权证的，以不动产登记部门出具的查档证明代替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155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报建地块用地红线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申请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可将红线图各点地理坐标直接录入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报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系统；或上传由具备资质的测绘机构出具的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0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坐标系”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68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拟建房屋建筑方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包括：拟建房屋与宅基地坐落总平面图、每层平面图、前后左右立面图等；提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版图形文件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本地村民可不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户口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系统自动生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29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1T00:59:00Z</dcterms:created>
  <dc:creator>user</dc:creator>
  <dc:description/>
  <dc:language>en-US</dc:language>
  <cp:lastModifiedBy>uos</cp:lastModifiedBy>
  <dcterms:modified xsi:type="dcterms:W3CDTF">2022-12-07T14:59:25Z</dcterms:modified>
  <cp:revision>5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10422</vt:lpwstr>
  </property>
</Properties>
</file>