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127-DB8F-4601-9979-A0600F2C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8E6-957E-4D77-BABC-D83C98F8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250-FACD-4255-BCAF-24C299B3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0A4-0294-444E-8AAB-446BC6DD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37D3-A77D-4F2B-A2D0-1B35F729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DEA7-F7D2-4CDA-8A58-CE9801C0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69C8-213B-4803-B624-02864248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3552-A019-4446-AE9E-8F2D9556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4C03-82C1-4F35-8C5D-0744FFDE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53E5-DB7A-48C2-BB23-F831CF6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E9E3-BD90-49A8-B2E4-A93D98D2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7B6-1EFD-49B9-9BBD-24E54B20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E68F-3D45-45A6-A291-ABE11A6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817D-55D7-4EDE-BAFB-FA3350B9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B556-EDB8-4D46-912B-0F717166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8E51-7F85-4952-AA7F-1D8D8FC5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8B7A-D4D3-40F2-8A17-F4102EF1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082-5A5A-4EB2-AD4E-8593491D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420-3A65-4A2B-BBEE-5BC08CB8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241-FD52-436E-97EC-D68F2BFC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297-854C-49C6-8B57-7E69AA24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EA4-646B-41E0-80E8-944D9A0B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BC6-4962-470A-9F86-1857C8C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84B-2AD8-453A-BFCB-7129AF7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2688-9726-4982-AB9D-E3093CD8CA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5F36-089F-4B47-81D6-C108E16816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39FC-62DD-43CB-A1F9-C4C57C390D4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E01-1CE3-4F66-8475-6A175517C4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406440" y="1123920"/>
            <a:ext cx="250488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07880" y="3251160"/>
            <a:ext cx="250524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767040" y="1123920"/>
            <a:ext cx="4219560" cy="17679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0"/>
          <p:cNvSpPr/>
          <p:nvPr/>
        </p:nvSpPr>
        <p:spPr>
          <a:xfrm>
            <a:off x="2179800" y="31428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延期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8"/>
          <p:cNvSpPr/>
          <p:nvPr/>
        </p:nvSpPr>
        <p:spPr>
          <a:xfrm>
            <a:off x="979560" y="1209600"/>
            <a:ext cx="158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8"/>
          <p:cNvSpPr/>
          <p:nvPr/>
        </p:nvSpPr>
        <p:spPr>
          <a:xfrm>
            <a:off x="979560" y="3360600"/>
            <a:ext cx="12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647640" y="3765600"/>
            <a:ext cx="20257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登录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农民安居房审批管理系统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，点击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建设延期申请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选项并上传相关资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9"/>
          <p:cNvSpPr/>
          <p:nvPr/>
        </p:nvSpPr>
        <p:spPr>
          <a:xfrm>
            <a:off x="3236760" y="5432400"/>
            <a:ext cx="53028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3798720" y="4216320"/>
            <a:ext cx="4219920" cy="1935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916440" y="1622520"/>
            <a:ext cx="15285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申请人</a:t>
            </a:r>
            <a:r>
              <a:rPr b="1" lang="en-US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未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办理建设批准手续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开工建设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8"/>
          <p:cNvSpPr/>
          <p:nvPr/>
        </p:nvSpPr>
        <p:spPr>
          <a:xfrm>
            <a:off x="3683160" y="1209600"/>
            <a:ext cx="126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8"/>
          <p:cNvSpPr/>
          <p:nvPr/>
        </p:nvSpPr>
        <p:spPr>
          <a:xfrm>
            <a:off x="3683160" y="4325760"/>
            <a:ext cx="126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917880" y="4695840"/>
            <a:ext cx="1589040" cy="5961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申请人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已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办理工程质量安全监管手续并开工建设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未完成建设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以《农房建设批准书》核发之日起计算）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右箭头 6"/>
          <p:cNvSpPr/>
          <p:nvPr/>
        </p:nvSpPr>
        <p:spPr>
          <a:xfrm>
            <a:off x="3236760" y="1989000"/>
            <a:ext cx="53028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6300720" y="1558800"/>
            <a:ext cx="140184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建设批准手续程序（参照表格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）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右箭头 8"/>
          <p:cNvSpPr/>
          <p:nvPr/>
        </p:nvSpPr>
        <p:spPr>
          <a:xfrm>
            <a:off x="5656320" y="2030400"/>
            <a:ext cx="465120" cy="162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300720" y="4950000"/>
            <a:ext cx="14781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工程质量安全监管手续程序（参照表格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）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右箭头 12"/>
          <p:cNvSpPr/>
          <p:nvPr/>
        </p:nvSpPr>
        <p:spPr>
          <a:xfrm>
            <a:off x="5657760" y="5337000"/>
            <a:ext cx="503280" cy="162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39640" y="1527120"/>
            <a:ext cx="2239920" cy="9309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合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保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企业派驻项目施工管理人员的任命文件和身份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工程质量安全监管登记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右箭头 16"/>
          <p:cNvSpPr/>
          <p:nvPr/>
        </p:nvSpPr>
        <p:spPr>
          <a:xfrm rot="5400000">
            <a:off x="1511640" y="2934360"/>
            <a:ext cx="296640" cy="120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3236760" y="2030400"/>
            <a:ext cx="76320" cy="35100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4"/>
          <p:cNvSpPr/>
          <p:nvPr/>
        </p:nvSpPr>
        <p:spPr>
          <a:xfrm rot="5400000">
            <a:off x="3074040" y="3685320"/>
            <a:ext cx="84240" cy="393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55800" y="887400"/>
          <a:ext cx="7372080" cy="414036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2801880"/>
                <a:gridCol w="129384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延期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设批准手续延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自动生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57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程质量安全监管手续延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单位具备相应资质并已在东莞市建设网建立信用档案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保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伤保险或建筑工程安全生产责任险，可叠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派驻项目施工管理人员的任命文件和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工程质量安全监管登记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自行网上下载或到村委会领取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07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8:59:00Z</dcterms:created>
  <dc:creator>user</dc:creator>
  <dc:description/>
  <dc:language>en-US</dc:language>
  <cp:lastModifiedBy>uos</cp:lastModifiedBy>
  <dcterms:modified xsi:type="dcterms:W3CDTF">2022-10-20T17:23:37Z</dcterms:modified>
  <cp:revision>5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10422</vt:lpwstr>
  </property>
</Properties>
</file>