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2F9-44DA-4A03-B452-EDDFF6AD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794-86B9-445F-B412-0A47BF83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78A-8153-48CC-AE5B-190696E1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9B3-358C-47DA-B9EC-1A05BAF2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D736-A799-412C-8585-26152C90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D21E-3250-4A15-BA02-707F72B2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2F3B-5210-4F45-8EBA-B73BFCD7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3A16-B3D9-4C46-BA5D-E0D82618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C3D3-84E1-467C-9AFB-51864645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0B4B-4B68-4965-8BB1-EC9C532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55AD-D200-4200-AAB7-326FCD1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074-969E-47C5-9972-A1A07377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D743-8EA3-43CE-8245-9A76351B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315E-14F5-4A2C-9801-DFCB284B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8752-64AF-4323-8E3A-7E287686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0C15-BAC3-4777-A247-750BC7BA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1488-D6F7-43E0-B1EC-EF8D74E7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41D-12F1-403F-AB54-1D3820FC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C97-4065-4DB5-B79F-777E40F0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08B-B847-438D-90A1-39738C90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750-7985-46E0-84AA-D9075F70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106-56F6-4630-8069-8769B60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D95-ACC0-4976-B295-6CCBDB7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3DB-29B4-4C30-B4A1-1248397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D273-31CA-4D5E-8E61-81AE97562B1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9E87-E24E-40DA-A1DF-29C79BE71A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E8DE-C0E9-4B2E-BE4B-03B21E0DEF3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608-049F-4016-81CF-D35CB8BD8B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8183520" y="3114720"/>
            <a:ext cx="1089000" cy="1935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531120" y="3114720"/>
            <a:ext cx="1458720" cy="1935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4792680" y="3114720"/>
            <a:ext cx="1566720" cy="1935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860560" y="5315040"/>
            <a:ext cx="167004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860560" y="3114720"/>
            <a:ext cx="1670040" cy="1935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136440" y="3002040"/>
            <a:ext cx="2262240" cy="3776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4863960" y="4029120"/>
            <a:ext cx="139392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公示及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123840" y="1330200"/>
            <a:ext cx="623556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252360" y="1700280"/>
            <a:ext cx="213372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登录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农民安居房审批管理系统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，点击办理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变更手续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，并点击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撤销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选项后，参照</a:t>
            </a:r>
            <a:r>
              <a:rPr b="1" lang="zh-CN" sz="1100" spc="-1" strike="noStrike">
                <a:solidFill>
                  <a:srgbClr val="ffc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ffc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c000"/>
                </a:solidFill>
                <a:latin typeface="宋体"/>
              </a:rPr>
              <a:t>流程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建设批准手续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程序进行修改并更换相应资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0"/>
          <p:cNvSpPr/>
          <p:nvPr/>
        </p:nvSpPr>
        <p:spPr>
          <a:xfrm>
            <a:off x="2146320" y="9828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变更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3840" y="704880"/>
            <a:ext cx="9148680" cy="428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8"/>
          <p:cNvSpPr/>
          <p:nvPr/>
        </p:nvSpPr>
        <p:spPr>
          <a:xfrm>
            <a:off x="174600" y="1341360"/>
            <a:ext cx="25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一：未完成建设批准手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28"/>
          <p:cNvSpPr/>
          <p:nvPr/>
        </p:nvSpPr>
        <p:spPr>
          <a:xfrm>
            <a:off x="262080" y="3521160"/>
            <a:ext cx="201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二：已完成建设批准手续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951280" y="3691080"/>
            <a:ext cx="14191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在录入《农房建设批准书》证件号，点击①②③事项的需要进行修改变更内容并更换变更资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右箭头 10"/>
          <p:cNvSpPr/>
          <p:nvPr/>
        </p:nvSpPr>
        <p:spPr>
          <a:xfrm>
            <a:off x="2608200" y="3914640"/>
            <a:ext cx="252360" cy="16380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8"/>
          <p:cNvSpPr/>
          <p:nvPr/>
        </p:nvSpPr>
        <p:spPr>
          <a:xfrm>
            <a:off x="4981680" y="3260880"/>
            <a:ext cx="119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村（社区）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2921040" y="5845320"/>
            <a:ext cx="14796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录入《农房建设批准书》证件号，点击④⑤事项修改变更内容并更换变更资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6607080" y="3452760"/>
            <a:ext cx="1324080" cy="1265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住房城乡建设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林水务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自然资源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规划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城市管理执法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5"/>
          <p:cNvSpPr/>
          <p:nvPr/>
        </p:nvSpPr>
        <p:spPr>
          <a:xfrm>
            <a:off x="8224920" y="317664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8275680" y="3943440"/>
            <a:ext cx="904680" cy="4287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19"/>
          <p:cNvSpPr/>
          <p:nvPr/>
        </p:nvSpPr>
        <p:spPr>
          <a:xfrm>
            <a:off x="6814440" y="477828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9"/>
          <p:cNvSpPr/>
          <p:nvPr/>
        </p:nvSpPr>
        <p:spPr>
          <a:xfrm>
            <a:off x="5160240" y="470052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8263080" y="4700520"/>
            <a:ext cx="109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右箭头 28"/>
          <p:cNvSpPr/>
          <p:nvPr/>
        </p:nvSpPr>
        <p:spPr>
          <a:xfrm>
            <a:off x="2608200" y="2171880"/>
            <a:ext cx="925560" cy="16164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8"/>
          <p:cNvSpPr/>
          <p:nvPr/>
        </p:nvSpPr>
        <p:spPr>
          <a:xfrm>
            <a:off x="595440" y="789120"/>
            <a:ext cx="13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变更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1468440" y="789120"/>
            <a:ext cx="67849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变更申请人或家庭成员信息②变更宅基地信息③变更房屋现状信息④变更拟建房屋信息⑤变更建设方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13"/>
          <p:cNvSpPr/>
          <p:nvPr/>
        </p:nvSpPr>
        <p:spPr>
          <a:xfrm>
            <a:off x="6780240" y="3176640"/>
            <a:ext cx="105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28"/>
          <p:cNvSpPr/>
          <p:nvPr/>
        </p:nvSpPr>
        <p:spPr>
          <a:xfrm>
            <a:off x="2860560" y="3260880"/>
            <a:ext cx="1509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形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变更①②③事项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28"/>
          <p:cNvSpPr/>
          <p:nvPr/>
        </p:nvSpPr>
        <p:spPr>
          <a:xfrm>
            <a:off x="3029040" y="5378400"/>
            <a:ext cx="126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形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变更④⑤事项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28"/>
          <p:cNvSpPr/>
          <p:nvPr/>
        </p:nvSpPr>
        <p:spPr>
          <a:xfrm>
            <a:off x="434880" y="4046400"/>
            <a:ext cx="174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（包括已完成工程质量安全监管手续，在施工过程中需要变更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595440" y="4863960"/>
            <a:ext cx="148104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登陆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农民安居房审批管理系统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，点击办理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变更手续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右箭头 42"/>
          <p:cNvSpPr/>
          <p:nvPr/>
        </p:nvSpPr>
        <p:spPr>
          <a:xfrm>
            <a:off x="2532240" y="6310440"/>
            <a:ext cx="264960" cy="16164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右箭头 43"/>
          <p:cNvSpPr/>
          <p:nvPr/>
        </p:nvSpPr>
        <p:spPr>
          <a:xfrm>
            <a:off x="6389640" y="4133880"/>
            <a:ext cx="141480" cy="16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右箭头 47"/>
          <p:cNvSpPr/>
          <p:nvPr/>
        </p:nvSpPr>
        <p:spPr>
          <a:xfrm>
            <a:off x="4613400" y="4133880"/>
            <a:ext cx="141120" cy="16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2729160" y="186840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3668760" y="1784520"/>
            <a:ext cx="140004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建设批准手续程序重新审查和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右箭头 3"/>
          <p:cNvSpPr/>
          <p:nvPr/>
        </p:nvSpPr>
        <p:spPr>
          <a:xfrm>
            <a:off x="8018640" y="4133880"/>
            <a:ext cx="141120" cy="16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右箭头 4"/>
          <p:cNvSpPr/>
          <p:nvPr/>
        </p:nvSpPr>
        <p:spPr>
          <a:xfrm>
            <a:off x="4649760" y="6148440"/>
            <a:ext cx="141480" cy="16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4832280" y="5315040"/>
            <a:ext cx="152712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3"/>
          <p:cNvSpPr/>
          <p:nvPr/>
        </p:nvSpPr>
        <p:spPr>
          <a:xfrm>
            <a:off x="5068800" y="5462640"/>
            <a:ext cx="105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4933800" y="5845320"/>
            <a:ext cx="1324080" cy="763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住房城乡建设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规划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9"/>
          <p:cNvSpPr/>
          <p:nvPr/>
        </p:nvSpPr>
        <p:spPr>
          <a:xfrm>
            <a:off x="5139720" y="66690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右箭头 13"/>
          <p:cNvSpPr/>
          <p:nvPr/>
        </p:nvSpPr>
        <p:spPr>
          <a:xfrm>
            <a:off x="6389640" y="6148440"/>
            <a:ext cx="141480" cy="16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531120" y="5345280"/>
            <a:ext cx="143964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25"/>
          <p:cNvSpPr/>
          <p:nvPr/>
        </p:nvSpPr>
        <p:spPr>
          <a:xfrm>
            <a:off x="6667560" y="537696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6767640" y="5942160"/>
            <a:ext cx="904680" cy="4287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9"/>
          <p:cNvSpPr/>
          <p:nvPr/>
        </p:nvSpPr>
        <p:spPr>
          <a:xfrm>
            <a:off x="6742080" y="661356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2532240" y="3951360"/>
            <a:ext cx="75960" cy="246708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2"/>
          <p:cNvSpPr/>
          <p:nvPr/>
        </p:nvSpPr>
        <p:spPr>
          <a:xfrm rot="5400000">
            <a:off x="2471040" y="5086080"/>
            <a:ext cx="76320" cy="1969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84160" y="611280"/>
          <a:ext cx="7372440" cy="4795920"/>
        </p:xfrm>
        <a:graphic>
          <a:graphicData uri="http://schemas.openxmlformats.org/drawingml/2006/table">
            <a:tbl>
              <a:tblPr/>
              <a:tblGrid>
                <a:gridCol w="1638360"/>
                <a:gridCol w="1628640"/>
                <a:gridCol w="2811600"/>
                <a:gridCol w="129384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或家庭成员信息、宅基地信息、房屋现状信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土地权属证明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宅基地信息需提供，包括：集体土地使用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动产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村宅基地批准书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8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地块用地红线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宅基地信息需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申请人信息或家庭成员信息、宅基地信息、房屋现状信息需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466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拟建房屋信息或建设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拟建房屋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建设方案需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拟建房屋建设方案信息需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3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6:59:00Z</dcterms:created>
  <dc:creator>user</dc:creator>
  <dc:description/>
  <dc:language>en-US</dc:language>
  <cp:lastModifiedBy>uos</cp:lastModifiedBy>
  <dcterms:modified xsi:type="dcterms:W3CDTF">2022-11-09T16:11:00Z</dcterms:modified>
  <cp:revision>5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10422</vt:lpwstr>
  </property>
</Properties>
</file>