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359900" cy="71993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8425-02F2-43E0-BACB-CC46A85E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FDE-C832-4A19-A63D-7DEB0032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9198-39E1-4BF7-99C7-D2F6E542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83CE-C8F6-4CA9-8B89-004952AC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A18D-4C9B-4069-B4A6-E28D9D90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B5A0-10E1-4B22-A50D-CF8F4644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C328-014C-45BB-A208-F21C9FC2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2D57-6400-4439-9635-F94B6D33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ED0A-D3A5-42D3-851A-8308C88A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A02F-A3E4-430A-9F1B-6939DDC8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9C96-A2F5-4F33-9606-953EECA3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90C8-03B1-4E00-9263-387D0550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53EE-DCE5-4B27-AFBD-B6DEDA46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0200-99A0-4787-86AD-0140FB5C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7EBE-B540-436A-BB19-15951F02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8215-C6A6-4AF5-BE1D-A1BCF2AC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986D-AD55-445E-9C38-2654D43C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3A75-5D16-49AF-91A5-D488EA03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7C58-32A0-4283-B1E6-091F7952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429-BB49-4130-8F67-A0320483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D235-AF61-452F-8922-B9ABCEAF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2A1E-E469-4F71-83BC-9C456EAB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2403-BF2A-49EC-8432-7FD9746C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3BE2-EB50-42C3-84F7-0AA38377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5811-11B8-44C1-BD82-7996674A374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2FA4-E864-4A3B-8BD9-F9387614FC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F226-F772-4AB3-ACD4-66FD995F047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BC83-E104-416B-962F-F42DAB1A499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0"/>
          <p:cNvSpPr/>
          <p:nvPr/>
        </p:nvSpPr>
        <p:spPr>
          <a:xfrm>
            <a:off x="4390920" y="1617840"/>
            <a:ext cx="1927440" cy="22701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90"/>
          <p:cNvSpPr/>
          <p:nvPr/>
        </p:nvSpPr>
        <p:spPr>
          <a:xfrm>
            <a:off x="2178000" y="52056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办理验收意见手续流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212760" y="1617840"/>
            <a:ext cx="1460520" cy="22701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28"/>
          <p:cNvSpPr/>
          <p:nvPr/>
        </p:nvSpPr>
        <p:spPr>
          <a:xfrm>
            <a:off x="127080" y="1873080"/>
            <a:ext cx="154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一）前期资料准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285840" y="2260440"/>
            <a:ext cx="13143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申请人组织设计、施工单位进行工程竣工验收，并形成《工程竣工验收报告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2178000" y="1625760"/>
            <a:ext cx="1609920" cy="22701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8"/>
          <p:cNvSpPr/>
          <p:nvPr/>
        </p:nvSpPr>
        <p:spPr>
          <a:xfrm>
            <a:off x="2373480" y="1865160"/>
            <a:ext cx="118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二）提交申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13"/>
          <p:cNvSpPr/>
          <p:nvPr/>
        </p:nvSpPr>
        <p:spPr>
          <a:xfrm>
            <a:off x="4911480" y="1873080"/>
            <a:ext cx="93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三）镇街部门联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右箭头 31"/>
          <p:cNvSpPr/>
          <p:nvPr/>
        </p:nvSpPr>
        <p:spPr>
          <a:xfrm>
            <a:off x="3863880" y="2589120"/>
            <a:ext cx="473040" cy="17964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6975360" y="1617840"/>
            <a:ext cx="1463760" cy="22701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19"/>
          <p:cNvSpPr/>
          <p:nvPr/>
        </p:nvSpPr>
        <p:spPr>
          <a:xfrm>
            <a:off x="4963680" y="3533760"/>
            <a:ext cx="83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25"/>
          <p:cNvSpPr/>
          <p:nvPr/>
        </p:nvSpPr>
        <p:spPr>
          <a:xfrm>
            <a:off x="7281720" y="1697040"/>
            <a:ext cx="851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四）镇人民政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街道办事处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最终审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7162920" y="2995560"/>
            <a:ext cx="1143000" cy="261360"/>
          </a:xfrm>
          <a:prstGeom prst="rect">
            <a:avLst/>
          </a:prstGeom>
          <a:noFill/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核发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农房验收意见表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右箭头 37"/>
          <p:cNvSpPr/>
          <p:nvPr/>
        </p:nvSpPr>
        <p:spPr>
          <a:xfrm rot="16200000">
            <a:off x="2584440" y="4326120"/>
            <a:ext cx="758880" cy="21240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19"/>
          <p:cNvSpPr/>
          <p:nvPr/>
        </p:nvSpPr>
        <p:spPr>
          <a:xfrm>
            <a:off x="7188120" y="3571920"/>
            <a:ext cx="109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2297160" y="2387520"/>
            <a:ext cx="1369800" cy="4287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登陆“农民安居房审批管理系统”办理验收意见手续申请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4557600" y="2295360"/>
            <a:ext cx="1641600" cy="4287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镇街住建部门会同规划（不动产）、自然、农林水务、城管等部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进行实地核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8923320" y="2631960"/>
            <a:ext cx="111240" cy="217980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540000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4"/>
          <p:cNvSpPr/>
          <p:nvPr/>
        </p:nvSpPr>
        <p:spPr>
          <a:xfrm rot="16200000">
            <a:off x="5904360" y="1710000"/>
            <a:ext cx="103320" cy="609912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1080000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1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右箭头 1"/>
          <p:cNvSpPr/>
          <p:nvPr/>
        </p:nvSpPr>
        <p:spPr>
          <a:xfrm>
            <a:off x="6394320" y="2590920"/>
            <a:ext cx="559080" cy="179280"/>
          </a:xfrm>
          <a:prstGeom prst="rightArrow">
            <a:avLst>
              <a:gd name="adj1" fmla="val 50000"/>
              <a:gd name="adj2" fmla="val 50054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39"/>
          <p:cNvSpPr/>
          <p:nvPr/>
        </p:nvSpPr>
        <p:spPr>
          <a:xfrm>
            <a:off x="4680000" y="4357800"/>
            <a:ext cx="3021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不符合条件的，一次性告知原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1"/>
          <p:cNvSpPr/>
          <p:nvPr/>
        </p:nvSpPr>
        <p:spPr>
          <a:xfrm>
            <a:off x="6318360" y="2295360"/>
            <a:ext cx="817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推送意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右箭头 2"/>
          <p:cNvSpPr/>
          <p:nvPr/>
        </p:nvSpPr>
        <p:spPr>
          <a:xfrm>
            <a:off x="1735200" y="2590920"/>
            <a:ext cx="411120" cy="1792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1"/>
          <p:cNvSpPr/>
          <p:nvPr/>
        </p:nvSpPr>
        <p:spPr>
          <a:xfrm>
            <a:off x="3740040" y="2260440"/>
            <a:ext cx="817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推送申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7061040" y="2471760"/>
            <a:ext cx="13431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审核联审部门意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6"/>
          <p:cNvSpPr/>
          <p:nvPr/>
        </p:nvSpPr>
        <p:spPr>
          <a:xfrm rot="16200000">
            <a:off x="8703360" y="2426040"/>
            <a:ext cx="96840" cy="50796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1080000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右箭头 7"/>
          <p:cNvSpPr/>
          <p:nvPr/>
        </p:nvSpPr>
        <p:spPr>
          <a:xfrm rot="5400000">
            <a:off x="7655040" y="2816280"/>
            <a:ext cx="185760" cy="936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28"/>
          <p:cNvSpPr/>
          <p:nvPr/>
        </p:nvSpPr>
        <p:spPr>
          <a:xfrm>
            <a:off x="398160" y="260280"/>
            <a:ext cx="579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附件</a:t>
            </a: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884160" y="787320"/>
          <a:ext cx="7372440" cy="1401840"/>
        </p:xfrm>
        <a:graphic>
          <a:graphicData uri="http://schemas.openxmlformats.org/drawingml/2006/table">
            <a:tbl>
              <a:tblPr/>
              <a:tblGrid>
                <a:gridCol w="1638360"/>
                <a:gridCol w="1638360"/>
                <a:gridCol w="2801880"/>
                <a:gridCol w="1293840"/>
              </a:tblGrid>
              <a:tr h="4665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办理验收意见手续所需资料清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备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66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工程竣工验收报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设计单位、施工企业加盖公章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12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2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9T00:59:00Z</dcterms:created>
  <dc:creator>user</dc:creator>
  <dc:description/>
  <dc:language>en-US</dc:language>
  <cp:lastModifiedBy>uos</cp:lastModifiedBy>
  <dcterms:modified xsi:type="dcterms:W3CDTF">2022-12-09T15:43:42Z</dcterms:modified>
  <cp:revision>50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10422</vt:lpwstr>
  </property>
</Properties>
</file>