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359900" cy="71993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16DC-B698-4171-ACA8-CFEC15B2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B210-A8C4-456A-809A-7C6A1AF8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C84C-CB21-4648-897C-AD2A2011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7992-D56D-4217-AEB3-FD8700A7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DAA9-47B5-4C64-97EE-33CC4FF2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93D1-649E-4E6C-834D-BC518138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8249-5627-454D-8068-6F00848F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270B-647A-4DDB-BA8D-B2808A07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C20D-1263-4CC7-9B5E-E1077492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8F36-804B-4B0E-92E4-E19D20AF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2346-C524-4062-836A-21C25CEF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6D87-5F47-46DA-8BBC-C41D28E6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95FD-FC11-4F77-BD6E-3E5DDFCC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7C6A-BBD2-4340-B208-6DB8C8CA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C9A4-B720-4015-A74D-D79BE87F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8528-4685-4530-BCBE-EAFB9148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4E3A-E79B-4CFE-8557-B41E76BC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6186-D90C-4EAF-9946-33B90A5C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9209-6912-4B73-A26F-B0AF40F7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A8EE-42C5-4ACA-9275-63DFC427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A338-4159-4950-B40A-6386E0A3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D942-C37D-487C-8275-6B5D9796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B174-A366-4E3D-952A-85D330E1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3BA6-E0BB-4368-B517-6295D7B0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E3A2-EC53-4980-8188-30565B963C6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AA96-6CF4-4E3C-A951-DF28D73589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7A77-9C4F-41AD-B04A-35392B75C55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5873-ADE0-46FF-8E1D-CCF543B25BE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0"/>
          <p:cNvSpPr/>
          <p:nvPr/>
        </p:nvSpPr>
        <p:spPr>
          <a:xfrm flipH="1">
            <a:off x="4803840" y="1343160"/>
            <a:ext cx="2503440" cy="39441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1100" spc="-1" strike="noStrike">
                <a:solidFill>
                  <a:srgbClr val="000000"/>
                </a:solidFill>
                <a:latin typeface="Calibri"/>
              </a:rPr>
              <a:t>（三）镇街部门审查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1220760" y="4067280"/>
            <a:ext cx="3036960" cy="12657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90"/>
          <p:cNvSpPr/>
          <p:nvPr/>
        </p:nvSpPr>
        <p:spPr>
          <a:xfrm>
            <a:off x="2179800" y="601560"/>
            <a:ext cx="54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办理农房工程质量安全监管手续流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373040" y="4484520"/>
            <a:ext cx="273240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申请人向镇街政务中心农房报建窗口（镇街住建部门窗口）办理工程质量安全监管手续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右箭头 31"/>
          <p:cNvSpPr/>
          <p:nvPr/>
        </p:nvSpPr>
        <p:spPr>
          <a:xfrm>
            <a:off x="4265640" y="4614840"/>
            <a:ext cx="431640" cy="18108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8"/>
          <p:cNvSpPr/>
          <p:nvPr/>
        </p:nvSpPr>
        <p:spPr>
          <a:xfrm>
            <a:off x="5505480" y="4863960"/>
            <a:ext cx="1165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5262480" y="3929040"/>
            <a:ext cx="1652760" cy="261360"/>
          </a:xfrm>
          <a:prstGeom prst="rect">
            <a:avLst/>
          </a:prstGeom>
          <a:noFill/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核发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施工现场公示牌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1220760" y="1343160"/>
            <a:ext cx="3036960" cy="24375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28"/>
          <p:cNvSpPr/>
          <p:nvPr/>
        </p:nvSpPr>
        <p:spPr>
          <a:xfrm>
            <a:off x="2120760" y="4189320"/>
            <a:ext cx="1235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二）提交申请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本框 28"/>
          <p:cNvSpPr/>
          <p:nvPr/>
        </p:nvSpPr>
        <p:spPr>
          <a:xfrm>
            <a:off x="1838160" y="1424160"/>
            <a:ext cx="180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一）前期资料准备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右箭头 13"/>
          <p:cNvSpPr/>
          <p:nvPr/>
        </p:nvSpPr>
        <p:spPr>
          <a:xfrm rot="5400000">
            <a:off x="2531160" y="3835800"/>
            <a:ext cx="220680" cy="20016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39"/>
          <p:cNvSpPr/>
          <p:nvPr/>
        </p:nvSpPr>
        <p:spPr>
          <a:xfrm>
            <a:off x="4160880" y="5656320"/>
            <a:ext cx="3021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不符合条件的，一次性告知原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1373040" y="1684440"/>
            <a:ext cx="2732400" cy="16005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农房建设申请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施工合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施工图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保险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⑤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农房建设批准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⑥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施工企业派驻项目施工管理人员的任命文件和身份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⑦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农房工程质量安全监管登记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⑧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房屋安全鉴定报告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⑨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施工图审查报告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（超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层需提供，不含梯房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5237280" y="1952640"/>
            <a:ext cx="1677960" cy="4287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镇街住建部门审查资料，并会同规划、自然、城管等部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进行实地核查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7"/>
          <p:cNvSpPr/>
          <p:nvPr/>
        </p:nvSpPr>
        <p:spPr>
          <a:xfrm>
            <a:off x="8201160" y="2298600"/>
            <a:ext cx="75960" cy="3787920"/>
          </a:xfrm>
          <a:prstGeom prst="rect">
            <a:avLst/>
          </a:prstGeom>
          <a:gradFill rotWithShape="0">
            <a:gsLst>
              <a:gs pos="0">
                <a:srgbClr val="fe4444"/>
              </a:gs>
              <a:gs pos="100000">
                <a:srgbClr val="832b2b"/>
              </a:gs>
            </a:gsLst>
            <a:lin ang="5400000"/>
          </a:gra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8"/>
          <p:cNvSpPr/>
          <p:nvPr/>
        </p:nvSpPr>
        <p:spPr>
          <a:xfrm rot="16200000">
            <a:off x="5404680" y="3215520"/>
            <a:ext cx="77760" cy="5667120"/>
          </a:xfrm>
          <a:prstGeom prst="rect">
            <a:avLst/>
          </a:prstGeom>
          <a:gradFill rotWithShape="0">
            <a:gsLst>
              <a:gs pos="0">
                <a:srgbClr val="fe4444"/>
              </a:gs>
              <a:gs pos="100000">
                <a:srgbClr val="832b2b"/>
              </a:gs>
            </a:gsLst>
            <a:lin ang="10800000"/>
          </a:gra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右箭头 37"/>
          <p:cNvSpPr/>
          <p:nvPr/>
        </p:nvSpPr>
        <p:spPr>
          <a:xfrm rot="16200000">
            <a:off x="2288160" y="5658480"/>
            <a:ext cx="706320" cy="15228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1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右箭头 1"/>
          <p:cNvSpPr/>
          <p:nvPr/>
        </p:nvSpPr>
        <p:spPr>
          <a:xfrm rot="5400000">
            <a:off x="5675400" y="3221640"/>
            <a:ext cx="758880" cy="18252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2"/>
          <p:cNvSpPr/>
          <p:nvPr/>
        </p:nvSpPr>
        <p:spPr>
          <a:xfrm rot="5400000">
            <a:off x="7776720" y="1950840"/>
            <a:ext cx="76320" cy="771480"/>
          </a:xfrm>
          <a:prstGeom prst="rect">
            <a:avLst/>
          </a:prstGeom>
          <a:gradFill rotWithShape="0">
            <a:gsLst>
              <a:gs pos="0">
                <a:srgbClr val="fe4444"/>
              </a:gs>
              <a:gs pos="100000">
                <a:srgbClr val="832b2b"/>
              </a:gs>
            </a:gsLst>
            <a:lin ang="0"/>
          </a:gra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3"/>
          <p:cNvSpPr/>
          <p:nvPr/>
        </p:nvSpPr>
        <p:spPr>
          <a:xfrm>
            <a:off x="5969880" y="2932200"/>
            <a:ext cx="5454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符合条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8"/>
          <p:cNvSpPr/>
          <p:nvPr/>
        </p:nvSpPr>
        <p:spPr>
          <a:xfrm>
            <a:off x="398160" y="260280"/>
            <a:ext cx="579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附件</a:t>
            </a: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841320" y="600120"/>
          <a:ext cx="7980480" cy="5866920"/>
        </p:xfrm>
        <a:graphic>
          <a:graphicData uri="http://schemas.openxmlformats.org/drawingml/2006/table">
            <a:tbl>
              <a:tblPr/>
              <a:tblGrid>
                <a:gridCol w="1638360"/>
                <a:gridCol w="1638360"/>
                <a:gridCol w="3278160"/>
                <a:gridCol w="1425600"/>
              </a:tblGrid>
              <a:tr h="46548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办理农房工程质量安全监管手续所需资料清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序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材料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注意事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备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21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农房建设申请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系统自动生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原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70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合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单位应取得建设行政主管部门颁发的相应资质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原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99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图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设计单位应取得建设行政主管部门颁发的相应资质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原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501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保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工伤保险或建筑工程安全生产责任险，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可叠加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原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2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农房建设批准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系统自动生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复印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75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企业派驻项目施工管理人员的任命文件和身份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企业加盖公章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复印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501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农房工程质量安全监管登记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可自行网上下载或到村委会领取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企业加盖公章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原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房屋安全鉴定报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加建农房需提供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原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75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图审查报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建筑层数超过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层的农房需提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（不含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层及符合属地风貌要求不纳入计算面积的梯房）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原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05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2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0T08:59:00Z</dcterms:created>
  <dc:creator>user</dc:creator>
  <dc:description/>
  <dc:language>en-US</dc:language>
  <cp:lastModifiedBy>uos</cp:lastModifiedBy>
  <dcterms:modified xsi:type="dcterms:W3CDTF">2022-12-09T11:13:18Z</dcterms:modified>
  <cp:revision>50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10422</vt:lpwstr>
  </property>
</Properties>
</file>